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4127040"/>
            <a:ext cx="8928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2880" y="126792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412704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2880" y="412704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2874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26600" y="1267920"/>
            <a:ext cx="2874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45560" y="1267920"/>
            <a:ext cx="2874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4127040"/>
            <a:ext cx="2874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26600" y="4127040"/>
            <a:ext cx="2874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45560" y="4127040"/>
            <a:ext cx="2874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56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2880" y="1267920"/>
            <a:ext cx="4356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8000" y="115560"/>
            <a:ext cx="89280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2880" y="1267920"/>
            <a:ext cx="4356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412704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56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26792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2880" y="412704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26792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4127040"/>
            <a:ext cx="8928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Click to edit the outline text format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Second Outline Level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2" marL="1143000" indent="-228600">
              <a:spcBef>
                <a:spcPts val="1001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Third Outline Level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3" marL="1600200" indent="-228600">
              <a:spcBef>
                <a:spcPts val="10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Fourth Outline Level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4" marL="2057400" indent="-228600">
              <a:spcBef>
                <a:spcPts val="1001"/>
              </a:spcBef>
              <a:buClr>
                <a:srgbClr val="ffffff"/>
              </a:buClr>
              <a:buFont typeface="HGS創英角ﾎﾟｯﾌﾟ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Fifth Outline Level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HGS創英角ﾎﾟｯﾌﾟ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Sixth Outline Level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HGS創英角ﾎﾟｯﾌﾟ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Seventh Outline Level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ffffff"/>
                </a:solidFill>
                <a:latin typeface="HGS創英角ﾎﾟｯﾌﾟ体"/>
              </a:rPr>
              <a:t>Introduction to</a:t>
            </a:r>
            <a:br>
              <a:rPr sz="7300"/>
            </a:br>
            <a:r>
              <a:rPr b="0" lang="en-US" sz="7300" spc="-1" strike="noStrike">
                <a:solidFill>
                  <a:srgbClr val="ffffff"/>
                </a:solidFill>
                <a:latin typeface="HGS創英角ﾎﾟｯﾌﾟ体"/>
              </a:rPr>
              <a:t>Tokyo Products</a:t>
            </a:r>
            <a:endParaRPr b="0" lang="en-US" sz="73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39" name=""/>
          <p:cNvSpPr/>
          <p:nvPr/>
        </p:nvSpPr>
        <p:spPr>
          <a:xfrm>
            <a:off x="5727240" y="5653080"/>
            <a:ext cx="31633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  <a:ea typeface="HGS創英角ﾎﾟｯﾌﾟ体"/>
              </a:rPr>
              <a:t>Mikio Hirabayas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HGS創英角ﾎﾟｯﾌﾟ体"/>
                <a:ea typeface="HGS創英角ﾎﾟｯﾌﾟ体"/>
              </a:rPr>
              <a:t>mikio@users.sourceforge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Other Mechanisms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abstract databas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common interface of 5 schema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on-memory hash, on-memory tre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file hash, file B+tree, file array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decides the concrete scheme on runtime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remote databas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network interface of the abstract database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yes, it's Tokyo Tyrant!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miscellaneous utilities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string processing, filesystem operation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memory pool, encoding/decoding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Example Code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280" name=""/>
          <p:cNvSpPr/>
          <p:nvPr/>
        </p:nvSpPr>
        <p:spPr>
          <a:xfrm>
            <a:off x="179280" y="1125360"/>
            <a:ext cx="4357800" cy="5400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#include &lt;</a:t>
            </a:r>
            <a:r>
              <a:rPr b="1" lang="ja-JP" sz="900" spc="-1" strike="noStrike">
                <a:solidFill>
                  <a:srgbClr val="ff9999"/>
                </a:solidFill>
                <a:latin typeface="Courier New"/>
              </a:rPr>
              <a:t>tcutil.h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#include &lt;</a:t>
            </a:r>
            <a:r>
              <a:rPr b="1" lang="ja-JP" sz="900" spc="-1" strike="noStrike">
                <a:solidFill>
                  <a:srgbClr val="ff9999"/>
                </a:solidFill>
                <a:latin typeface="Courier New"/>
              </a:rPr>
              <a:t>tchdb.h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#include &lt;stdlib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#include &lt;stdbool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#include &lt;stdint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nt main(int argc, char **argv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TCHDB *hdb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nt ecod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char *key, *valu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create the object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hdb =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new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open the database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open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, "casket.hdb", HDBOWRITER | HDBOCREAT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ecode = tchdbecode(h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printf(stderr, "open error: %s\n", tch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store records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put2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, "foo", "hop") 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!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put2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, "bar", "step") 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!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put2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, "baz", "jump"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ecode = tchdbecode(h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printf(stderr, "put error: %s\n", tch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retrieve records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value =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get2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, "foo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value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printf("%s\n", value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ree(value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ecode = tchdbecode(h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printf(stderr, "get error: %s\n", tch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3280" y="3357720"/>
            <a:ext cx="4357800" cy="3311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traverse records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iterinit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while((key = tchdbiternext2(hdb)) != NULL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value =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get2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, key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value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printf("%s:%s\n", key, value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ree(value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ree(key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close the database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close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ecode = tchdbecode(h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printf(stderr, "close error: %s\n", tch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delete the object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del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okyo Tyrant</a:t>
            </a:r>
            <a:br>
              <a:rPr sz="4900"/>
            </a:br>
            <a:r>
              <a:rPr b="0" lang="en-US" sz="2900" spc="-1" strike="noStrike">
                <a:solidFill>
                  <a:srgbClr val="ffffff"/>
                </a:solidFill>
                <a:latin typeface="HGS創英角ﾎﾟｯﾌﾟ体"/>
              </a:rPr>
              <a:t>- database server -</a:t>
            </a:r>
            <a:endParaRPr b="0" lang="en-US" sz="2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Features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66"/>
                </a:solidFill>
                <a:latin typeface="HGS創英角ﾎﾟｯﾌﾟ体"/>
              </a:rPr>
              <a:t>network server of Tokyo Cabinet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client/server model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multi applications can access one database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effective binary protocol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66"/>
                </a:solidFill>
                <a:latin typeface="HGS創英角ﾎﾟｯﾌﾟ体"/>
              </a:rPr>
              <a:t>compatible protocols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supports memcached protocol and HTTP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available from most popular languages 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66"/>
                </a:solidFill>
                <a:latin typeface="HGS創英角ﾎﾟｯﾌﾟ体"/>
              </a:rPr>
              <a:t>high concurrency/performance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resolves "c10k" problem with epoll/kqueue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17.2 sec/1M queries (58,000 qps)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high availability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hot backup and update log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asynchronous replication between server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various database schema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using the abstract database API of Tokyo Cabinet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effective operations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no-reply updating, multi-record retrieval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atomic increment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Lua extension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defines arbitrary database operation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atomic operation by record locking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pure script language interfaces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Perl, Ruby, Java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643280" y="1341360"/>
            <a:ext cx="4176720" cy="540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Asynchronous Replication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288" name=""/>
          <p:cNvSpPr/>
          <p:nvPr/>
        </p:nvSpPr>
        <p:spPr>
          <a:xfrm>
            <a:off x="250920" y="1341360"/>
            <a:ext cx="4176720" cy="540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76240" y="2581200"/>
            <a:ext cx="1524240" cy="1752840"/>
          </a:xfrm>
          <a:custGeom>
            <a:avLst/>
            <a:gdLst>
              <a:gd name="textAreaLeft" fmla="*/ 74160 w 1524240"/>
              <a:gd name="textAreaRight" fmla="*/ 1450080 w 1524240"/>
              <a:gd name="textAreaTop" fmla="*/ 74160 h 1752840"/>
              <a:gd name="textAreaBottom" fmla="*/ 1678680 h 1752840"/>
            </a:gdLst>
            <a:ahLst/>
            <a:rect l="textAreaLeft" t="textAreaTop" r="textAreaRight" b="textAreaBottom"/>
            <a:pathLst>
              <a:path w="21600" h="24839">
                <a:moveTo>
                  <a:pt x="3600" y="0"/>
                </a:moveTo>
                <a:arcTo wR="3600" hR="3600" stAng="16200000" swAng="-5400000"/>
                <a:lnTo>
                  <a:pt x="0" y="21239"/>
                </a:lnTo>
                <a:arcTo wR="3600" hR="3600" stAng="10800000" swAng="-5400000"/>
                <a:lnTo>
                  <a:pt x="18000" y="248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73000" y="258120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19320" y="2962440"/>
            <a:ext cx="914400" cy="5331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33440" y="3724200"/>
            <a:ext cx="838440" cy="533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57480" y="3648240"/>
            <a:ext cx="838080" cy="53316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91" idx="3"/>
            <a:endCxn id="293" idx="0"/>
          </p:cNvCxnSpPr>
          <p:nvPr/>
        </p:nvCxnSpPr>
        <p:spPr>
          <a:xfrm flipV="1" rot="10800000">
            <a:off x="1675800" y="3495240"/>
            <a:ext cx="1080" cy="153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419040" y="4867200"/>
            <a:ext cx="1524240" cy="1752840"/>
          </a:xfrm>
          <a:custGeom>
            <a:avLst/>
            <a:gdLst>
              <a:gd name="textAreaLeft" fmla="*/ 74160 w 1524240"/>
              <a:gd name="textAreaRight" fmla="*/ 1450080 w 1524240"/>
              <a:gd name="textAreaTop" fmla="*/ 74160 h 1752840"/>
              <a:gd name="textAreaBottom" fmla="*/ 1678680 h 1752840"/>
            </a:gdLst>
            <a:ahLst/>
            <a:rect l="textAreaLeft" t="textAreaTop" r="textAreaRight" b="textAreaBottom"/>
            <a:pathLst>
              <a:path w="21600" h="24839">
                <a:moveTo>
                  <a:pt x="3600" y="0"/>
                </a:moveTo>
                <a:arcTo wR="3600" hR="3600" stAng="16200000" swAng="-5400000"/>
                <a:lnTo>
                  <a:pt x="0" y="21239"/>
                </a:lnTo>
                <a:arcTo wR="3600" hR="3600" stAng="10800000" swAng="-5400000"/>
                <a:lnTo>
                  <a:pt x="18000" y="248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16160" y="4867200"/>
            <a:ext cx="11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v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5248440"/>
            <a:ext cx="914400" cy="5331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76240" y="6010200"/>
            <a:ext cx="838440" cy="533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00280" y="5934240"/>
            <a:ext cx="838080" cy="53316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" name=""/>
          <p:cNvCxnSpPr>
            <a:stCxn id="297" idx="3"/>
            <a:endCxn id="299" idx="0"/>
          </p:cNvCxnSpPr>
          <p:nvPr/>
        </p:nvCxnSpPr>
        <p:spPr>
          <a:xfrm flipV="1" rot="10800000">
            <a:off x="1218600" y="5781240"/>
            <a:ext cx="1080" cy="153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339480" y="4334040"/>
            <a:ext cx="1264320" cy="5202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i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if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03640" y="24922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302" idx="2"/>
            <a:endCxn id="289" idx="0"/>
          </p:cNvCxnSpPr>
          <p:nvPr/>
        </p:nvCxnSpPr>
        <p:spPr>
          <a:xfrm flipV="1" rot="16200000">
            <a:off x="2503440" y="1715760"/>
            <a:ext cx="293040" cy="2022840"/>
          </a:xfrm>
          <a:prstGeom prst="curvedConnector5">
            <a:avLst>
              <a:gd name="adj1" fmla="val -78228"/>
              <a:gd name="adj2" fmla="val 21217"/>
              <a:gd name="adj3" fmla="val -782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338560" y="2131920"/>
            <a:ext cx="1054080" cy="3070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71880" y="4867200"/>
            <a:ext cx="1523880" cy="175284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752840"/>
              <a:gd name="textAreaBottom" fmla="*/ 1678680 h 1752840"/>
            </a:gdLst>
            <a:ahLst/>
            <a:rect l="textAreaLeft" t="textAreaTop" r="textAreaRight" b="textAreaBottom"/>
            <a:pathLst>
              <a:path w="21600" h="24845">
                <a:moveTo>
                  <a:pt x="3600" y="0"/>
                </a:moveTo>
                <a:arcTo wR="3600" hR="3600" stAng="16200000" swAng="-5400000"/>
                <a:lnTo>
                  <a:pt x="0" y="21245"/>
                </a:lnTo>
                <a:arcTo wR="3600" hR="3600" stAng="10800000" swAng="-5400000"/>
                <a:lnTo>
                  <a:pt x="18000" y="24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69000" y="4867200"/>
            <a:ext cx="11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v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5248440"/>
            <a:ext cx="914400" cy="5331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629080" y="6010200"/>
            <a:ext cx="838080" cy="533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52760" y="5934240"/>
            <a:ext cx="838080" cy="53316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7" idx="3"/>
            <a:endCxn id="309" idx="0"/>
          </p:cNvCxnSpPr>
          <p:nvPr/>
        </p:nvCxnSpPr>
        <p:spPr>
          <a:xfrm flipV="1" rot="10800000">
            <a:off x="2971080" y="5781240"/>
            <a:ext cx="1080" cy="153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293" idx="2"/>
            <a:endCxn id="297" idx="1"/>
          </p:cNvCxnSpPr>
          <p:nvPr/>
        </p:nvCxnSpPr>
        <p:spPr>
          <a:xfrm rot="5400000">
            <a:off x="913680" y="4486320"/>
            <a:ext cx="1067760" cy="457920"/>
          </a:xfrm>
          <a:prstGeom prst="curvedConnector5">
            <a:avLst>
              <a:gd name="adj1" fmla="val 49983"/>
              <a:gd name="adj2" fmla="val 49960"/>
              <a:gd name="adj3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293" idx="2"/>
            <a:endCxn id="307" idx="1"/>
          </p:cNvCxnSpPr>
          <p:nvPr/>
        </p:nvCxnSpPr>
        <p:spPr>
          <a:xfrm flipH="1" rot="16200000">
            <a:off x="1790640" y="4066920"/>
            <a:ext cx="1067760" cy="1296000"/>
          </a:xfrm>
          <a:prstGeom prst="curvedConnector5">
            <a:avLst>
              <a:gd name="adj1" fmla="val 49983"/>
              <a:gd name="adj2" fmla="val 49986"/>
              <a:gd name="adj3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stCxn id="302" idx="2"/>
            <a:endCxn id="295" idx="3"/>
          </p:cNvCxnSpPr>
          <p:nvPr/>
        </p:nvCxnSpPr>
        <p:spPr>
          <a:xfrm rot="5400000">
            <a:off x="1366200" y="3449520"/>
            <a:ext cx="2870640" cy="1718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302" idx="2"/>
            <a:endCxn id="305" idx="3"/>
          </p:cNvCxnSpPr>
          <p:nvPr/>
        </p:nvCxnSpPr>
        <p:spPr>
          <a:xfrm flipH="1" rot="16200000">
            <a:off x="2242440" y="4290840"/>
            <a:ext cx="2870640" cy="35640"/>
          </a:xfrm>
          <a:prstGeom prst="curvedConnector5">
            <a:avLst>
              <a:gd name="adj1" fmla="val 34729"/>
              <a:gd name="adj2" fmla="val 376530"/>
              <a:gd name="adj3" fmla="val 347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2552760" y="3571920"/>
            <a:ext cx="1698480" cy="5202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load balan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70360" y="3695760"/>
            <a:ext cx="1524240" cy="1752480"/>
          </a:xfrm>
          <a:custGeom>
            <a:avLst/>
            <a:gdLst>
              <a:gd name="textAreaLeft" fmla="*/ 74160 w 1524240"/>
              <a:gd name="textAreaRight" fmla="*/ 1450080 w 1524240"/>
              <a:gd name="textAreaTop" fmla="*/ 74160 h 1752480"/>
              <a:gd name="textAreaBottom" fmla="*/ 1678320 h 1752480"/>
            </a:gdLst>
            <a:ahLst/>
            <a:rect l="textAreaLeft" t="textAreaTop" r="textAreaRight" b="textAreaBottom"/>
            <a:pathLst>
              <a:path w="21600" h="24834">
                <a:moveTo>
                  <a:pt x="3600" y="0"/>
                </a:moveTo>
                <a:arcTo wR="3600" hR="3600" stAng="16200000" swAng="-5400000"/>
                <a:lnTo>
                  <a:pt x="0" y="21234"/>
                </a:lnTo>
                <a:arcTo wR="3600" hR="3600" stAng="10800000" swAng="-5400000"/>
                <a:lnTo>
                  <a:pt x="18000" y="24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767480" y="369576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e 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13440" y="4076640"/>
            <a:ext cx="914400" cy="5335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227560" y="4838760"/>
            <a:ext cx="838440" cy="533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51600" y="4762440"/>
            <a:ext cx="838080" cy="533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18" idx="3"/>
            <a:endCxn id="320" idx="0"/>
          </p:cNvCxnSpPr>
          <p:nvPr/>
        </p:nvCxnSpPr>
        <p:spPr>
          <a:xfrm flipV="1" rot="10800000">
            <a:off x="5569920" y="4609800"/>
            <a:ext cx="1080" cy="153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066080" y="3675240"/>
            <a:ext cx="1523880" cy="175248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752480"/>
              <a:gd name="textAreaBottom" fmla="*/ 1678320 h 1752480"/>
            </a:gdLst>
            <a:ahLst/>
            <a:rect l="textAreaLeft" t="textAreaTop" r="textAreaRight" b="textAreaBottom"/>
            <a:pathLst>
              <a:path w="21600" h="24839">
                <a:moveTo>
                  <a:pt x="3600" y="0"/>
                </a:moveTo>
                <a:arcTo wR="3600" hR="3600" stAng="16200000" swAng="-5400000"/>
                <a:lnTo>
                  <a:pt x="0" y="21239"/>
                </a:lnTo>
                <a:arcTo wR="3600" hR="3600" stAng="10800000" swAng="-5400000"/>
                <a:lnTo>
                  <a:pt x="18000" y="248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62480" y="36752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by 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408800" y="4056120"/>
            <a:ext cx="914400" cy="5335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523280" y="4818240"/>
            <a:ext cx="838080" cy="53316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446960" y="4741920"/>
            <a:ext cx="838080" cy="533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"/>
          <p:cNvCxnSpPr>
            <a:stCxn id="324" idx="3"/>
            <a:endCxn id="326" idx="0"/>
          </p:cNvCxnSpPr>
          <p:nvPr/>
        </p:nvCxnSpPr>
        <p:spPr>
          <a:xfrm flipV="1" rot="10800000">
            <a:off x="7865280" y="4589280"/>
            <a:ext cx="1080" cy="153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20" idx="3"/>
            <a:endCxn id="324" idx="2"/>
          </p:cNvCxnSpPr>
          <p:nvPr/>
        </p:nvCxnSpPr>
        <p:spPr>
          <a:xfrm flipV="1">
            <a:off x="5989680" y="4322520"/>
            <a:ext cx="1419840" cy="707040"/>
          </a:xfrm>
          <a:prstGeom prst="curvedConnector5">
            <a:avLst>
              <a:gd name="adj1" fmla="val 49987"/>
              <a:gd name="adj2" fmla="val 49974"/>
              <a:gd name="adj3" fmla="val 49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9" name=""/>
          <p:cNvSpPr/>
          <p:nvPr/>
        </p:nvSpPr>
        <p:spPr>
          <a:xfrm>
            <a:off x="6081480" y="5084640"/>
            <a:ext cx="1264320" cy="5202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i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if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75280" y="278136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"/>
          <p:cNvCxnSpPr>
            <a:stCxn id="330" idx="2"/>
            <a:endCxn id="316" idx="0"/>
          </p:cNvCxnSpPr>
          <p:nvPr/>
        </p:nvCxnSpPr>
        <p:spPr>
          <a:xfrm flipV="1" rot="10800000">
            <a:off x="5531760" y="3161880"/>
            <a:ext cx="108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4770360" y="323856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3" name=""/>
          <p:cNvCxnSpPr>
            <a:stCxn id="326" idx="1"/>
            <a:endCxn id="318" idx="4"/>
          </p:cNvCxnSpPr>
          <p:nvPr/>
        </p:nvCxnSpPr>
        <p:spPr>
          <a:xfrm rot="10800000">
            <a:off x="6027120" y="4343400"/>
            <a:ext cx="1419840" cy="66564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4" name=""/>
          <p:cNvCxnSpPr>
            <a:stCxn id="330" idx="2"/>
            <a:endCxn id="322" idx="0"/>
          </p:cNvCxnSpPr>
          <p:nvPr/>
        </p:nvCxnSpPr>
        <p:spPr>
          <a:xfrm flipH="1" rot="16200000">
            <a:off x="6423480" y="2270520"/>
            <a:ext cx="513720" cy="2296080"/>
          </a:xfrm>
          <a:prstGeom prst="curvedConnector5">
            <a:avLst>
              <a:gd name="adj1" fmla="val 49789"/>
              <a:gd name="adj2" fmla="val 49992"/>
              <a:gd name="adj3" fmla="val 49789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6297120" y="3068640"/>
            <a:ext cx="1983600" cy="2764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if the master is d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69800" y="13413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 and s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oad balan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861440" y="134136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al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ail o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84360" y="1341360"/>
            <a:ext cx="7920000" cy="518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hread Pool Model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340" name=""/>
          <p:cNvSpPr/>
          <p:nvPr/>
        </p:nvSpPr>
        <p:spPr>
          <a:xfrm>
            <a:off x="2914560" y="1541520"/>
            <a:ext cx="1752840" cy="23623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362320"/>
              <a:gd name="textAreaBottom" fmla="*/ 2277000 h 2362320"/>
            </a:gdLst>
            <a:ahLst/>
            <a:rect l="textAreaLeft" t="textAreaTop" r="textAreaRight" b="textAreaBottom"/>
            <a:pathLst>
              <a:path w="21600" h="29109">
                <a:moveTo>
                  <a:pt x="3600" y="0"/>
                </a:moveTo>
                <a:arcTo wR="3600" hR="3600" stAng="16200000" swAng="-5400000"/>
                <a:lnTo>
                  <a:pt x="0" y="25509"/>
                </a:lnTo>
                <a:arcTo wR="3600" hR="3600" stAng="10800000" swAng="-5400000"/>
                <a:lnTo>
                  <a:pt x="18000" y="291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30200" y="162864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epoll/k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57560" y="22273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57560" y="2379600"/>
            <a:ext cx="381240" cy="1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57560" y="253224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57560" y="2684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057560" y="2836800"/>
            <a:ext cx="381240" cy="1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057560" y="298944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057560" y="31417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057560" y="3294000"/>
            <a:ext cx="381240" cy="1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905280" y="19224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762280" y="2303640"/>
            <a:ext cx="1219320" cy="304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poll_ctl(ad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762280" y="2989440"/>
            <a:ext cx="914400" cy="304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poll_wa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55736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90680" y="2303640"/>
            <a:ext cx="914400" cy="304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"/>
          <p:cNvCxnSpPr>
            <a:stCxn id="353" idx="2"/>
            <a:endCxn id="351" idx="3"/>
          </p:cNvCxnSpPr>
          <p:nvPr/>
        </p:nvCxnSpPr>
        <p:spPr>
          <a:xfrm rot="5400000">
            <a:off x="4352400" y="1490400"/>
            <a:ext cx="594360" cy="133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6" name=""/>
          <p:cNvCxnSpPr>
            <a:stCxn id="346" idx="1"/>
            <a:endCxn id="352" idx="0"/>
          </p:cNvCxnSpPr>
          <p:nvPr/>
        </p:nvCxnSpPr>
        <p:spPr>
          <a:xfrm flipV="1" rot="10800000">
            <a:off x="3218760" y="2913120"/>
            <a:ext cx="838800" cy="76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" name=""/>
          <p:cNvCxnSpPr>
            <a:stCxn id="352" idx="1"/>
            <a:endCxn id="354" idx="2"/>
          </p:cNvCxnSpPr>
          <p:nvPr/>
        </p:nvCxnSpPr>
        <p:spPr>
          <a:xfrm rot="10800000">
            <a:off x="1847160" y="2607480"/>
            <a:ext cx="91512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4" idx="3"/>
            <a:endCxn id="351" idx="1"/>
          </p:cNvCxnSpPr>
          <p:nvPr/>
        </p:nvCxnSpPr>
        <p:spPr>
          <a:xfrm>
            <a:off x="2305080" y="2455560"/>
            <a:ext cx="4579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4896000" y="3370320"/>
            <a:ext cx="1523880" cy="198108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981080"/>
              <a:gd name="textAreaBottom" fmla="*/ 1906920 h 1981080"/>
            </a:gdLst>
            <a:ahLst/>
            <a:rect l="textAreaLeft" t="textAreaTop" r="textAreaRight" b="textAreaBottom"/>
            <a:pathLst>
              <a:path w="21600" h="28079">
                <a:moveTo>
                  <a:pt x="3600" y="0"/>
                </a:moveTo>
                <a:arcTo wR="3600" hR="3600" stAng="16200000" swAng="-5400000"/>
                <a:lnTo>
                  <a:pt x="0" y="24479"/>
                </a:lnTo>
                <a:arcTo wR="3600" hR="3600" stAng="10800000" swAng="-5400000"/>
                <a:lnTo>
                  <a:pt x="18000" y="280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002560" y="342900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sk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10400" y="4056120"/>
            <a:ext cx="38088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10400" y="4208400"/>
            <a:ext cx="380880" cy="1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810400" y="4361040"/>
            <a:ext cx="38088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810400" y="4513320"/>
            <a:ext cx="38088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810400" y="4665600"/>
            <a:ext cx="380880" cy="1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810400" y="4818240"/>
            <a:ext cx="38088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10400" y="4970520"/>
            <a:ext cx="38088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10400" y="5122800"/>
            <a:ext cx="380880" cy="1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657760" y="37512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743360" y="39798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n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743360" y="48942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e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"/>
          <p:cNvCxnSpPr>
            <a:stCxn id="365" idx="1"/>
            <a:endCxn id="371" idx="0"/>
          </p:cNvCxnSpPr>
          <p:nvPr/>
        </p:nvCxnSpPr>
        <p:spPr>
          <a:xfrm flipV="1" rot="10800000">
            <a:off x="5199840" y="4740840"/>
            <a:ext cx="610560" cy="153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370" idx="2"/>
            <a:endCxn id="364" idx="1"/>
          </p:cNvCxnSpPr>
          <p:nvPr/>
        </p:nvCxnSpPr>
        <p:spPr>
          <a:xfrm flipH="1" rot="16200000">
            <a:off x="5352840" y="4131720"/>
            <a:ext cx="30564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6659640" y="5157720"/>
            <a:ext cx="1523880" cy="381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er 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659640" y="5614920"/>
            <a:ext cx="1523880" cy="381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er 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59640" y="6072120"/>
            <a:ext cx="1523880" cy="381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er 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"/>
          <p:cNvCxnSpPr>
            <a:stCxn id="371" idx="2"/>
            <a:endCxn id="374" idx="1"/>
          </p:cNvCxnSpPr>
          <p:nvPr/>
        </p:nvCxnSpPr>
        <p:spPr>
          <a:xfrm flipH="1" rot="16200000">
            <a:off x="5854680" y="4543920"/>
            <a:ext cx="149760" cy="1459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8" name=""/>
          <p:cNvCxnSpPr>
            <a:stCxn id="371" idx="2"/>
            <a:endCxn id="375" idx="1"/>
          </p:cNvCxnSpPr>
          <p:nvPr/>
        </p:nvCxnSpPr>
        <p:spPr>
          <a:xfrm flipH="1" rot="16200000">
            <a:off x="5626080" y="4772520"/>
            <a:ext cx="606960" cy="1459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71" idx="2"/>
            <a:endCxn id="376" idx="1"/>
          </p:cNvCxnSpPr>
          <p:nvPr/>
        </p:nvCxnSpPr>
        <p:spPr>
          <a:xfrm flipH="1" rot="16200000">
            <a:off x="5397480" y="5001120"/>
            <a:ext cx="1064160" cy="1459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4" idx="3"/>
            <a:endCxn id="351" idx="3"/>
          </p:cNvCxnSpPr>
          <p:nvPr/>
        </p:nvCxnSpPr>
        <p:spPr>
          <a:xfrm flipH="1" flipV="1">
            <a:off x="3981240" y="2455560"/>
            <a:ext cx="4202640" cy="2892960"/>
          </a:xfrm>
          <a:prstGeom prst="curvedConnector5">
            <a:avLst>
              <a:gd name="adj1" fmla="val -5431"/>
              <a:gd name="adj2" fmla="val 49993"/>
              <a:gd name="adj3" fmla="val -54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1" name=""/>
          <p:cNvCxnSpPr>
            <a:stCxn id="375" idx="3"/>
            <a:endCxn id="351" idx="3"/>
          </p:cNvCxnSpPr>
          <p:nvPr/>
        </p:nvCxnSpPr>
        <p:spPr>
          <a:xfrm flipH="1" flipV="1">
            <a:off x="3981240" y="2455560"/>
            <a:ext cx="4202640" cy="3350160"/>
          </a:xfrm>
          <a:prstGeom prst="curvedConnector5">
            <a:avLst>
              <a:gd name="adj1" fmla="val -5431"/>
              <a:gd name="adj2" fmla="val 49994"/>
              <a:gd name="adj3" fmla="val -54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2" name=""/>
          <p:cNvCxnSpPr>
            <a:stCxn id="376" idx="3"/>
            <a:endCxn id="351" idx="3"/>
          </p:cNvCxnSpPr>
          <p:nvPr/>
        </p:nvCxnSpPr>
        <p:spPr>
          <a:xfrm flipH="1" flipV="1">
            <a:off x="3981240" y="2455560"/>
            <a:ext cx="4202640" cy="3807360"/>
          </a:xfrm>
          <a:prstGeom prst="curvedConnector5">
            <a:avLst>
              <a:gd name="adj1" fmla="val -5431"/>
              <a:gd name="adj2" fmla="val 49995"/>
              <a:gd name="adj3" fmla="val -54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3" name=""/>
          <p:cNvSpPr/>
          <p:nvPr/>
        </p:nvSpPr>
        <p:spPr>
          <a:xfrm>
            <a:off x="6294240" y="2637000"/>
            <a:ext cx="2108520" cy="3070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 back if keep-a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784760" y="6070680"/>
            <a:ext cx="1195560" cy="3070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each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73920" y="1773360"/>
            <a:ext cx="2559600" cy="5202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ccept the client conn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f the event is about the lis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762280" y="3522600"/>
            <a:ext cx="1219320" cy="304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poll_ctl(d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"/>
          <p:cNvCxnSpPr>
            <a:stCxn id="352" idx="2"/>
            <a:endCxn id="386" idx="0"/>
          </p:cNvCxnSpPr>
          <p:nvPr/>
        </p:nvCxnSpPr>
        <p:spPr>
          <a:xfrm flipH="1" rot="16200000">
            <a:off x="3180240" y="3331800"/>
            <a:ext cx="22932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8" name=""/>
          <p:cNvCxnSpPr>
            <a:stCxn id="386" idx="2"/>
            <a:endCxn id="370" idx="1"/>
          </p:cNvCxnSpPr>
          <p:nvPr/>
        </p:nvCxnSpPr>
        <p:spPr>
          <a:xfrm flipH="1" rot="16200000">
            <a:off x="3904920" y="3293640"/>
            <a:ext cx="305640" cy="1372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9" name=""/>
          <p:cNvCxnSpPr>
            <a:stCxn id="351" idx="2"/>
            <a:endCxn id="345" idx="1"/>
          </p:cNvCxnSpPr>
          <p:nvPr/>
        </p:nvCxnSpPr>
        <p:spPr>
          <a:xfrm flipH="1" rot="16200000">
            <a:off x="3637440" y="2341440"/>
            <a:ext cx="153360" cy="686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0" name=""/>
          <p:cNvCxnSpPr>
            <a:stCxn id="349" idx="2"/>
            <a:endCxn id="386" idx="3"/>
          </p:cNvCxnSpPr>
          <p:nvPr/>
        </p:nvCxnSpPr>
        <p:spPr>
          <a:xfrm rot="5400000">
            <a:off x="3999960" y="342756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1" name=""/>
          <p:cNvSpPr/>
          <p:nvPr/>
        </p:nvSpPr>
        <p:spPr>
          <a:xfrm>
            <a:off x="1464120" y="4149720"/>
            <a:ext cx="3231720" cy="5202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ove the readable client 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rom the epoll queue to the task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700160" y="1916280"/>
            <a:ext cx="3882600" cy="5202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irst of all, the listening socket is enqueued i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he epoll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08000" y="1267920"/>
            <a:ext cx="8928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defines DB operations as Lua functions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clients call each giving function name and record data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the server returns the return value of the function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options about atomicity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no locking / record locking / global locking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394" name=""/>
          <p:cNvSpPr/>
          <p:nvPr/>
        </p:nvSpPr>
        <p:spPr>
          <a:xfrm>
            <a:off x="468360" y="3645000"/>
            <a:ext cx="8280360" cy="309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900" spc="-1" strike="noStrike">
                <a:solidFill>
                  <a:srgbClr val="ffffff"/>
                </a:solidFill>
                <a:latin typeface="HGS創英角ﾎﾟｯﾌﾟ体"/>
              </a:rPr>
              <a:t>Lua Extention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396" name=""/>
          <p:cNvSpPr/>
          <p:nvPr/>
        </p:nvSpPr>
        <p:spPr>
          <a:xfrm>
            <a:off x="4429080" y="3789360"/>
            <a:ext cx="4191120" cy="278928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42880" y="3789360"/>
            <a:ext cx="2362320" cy="278928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11160" y="5059440"/>
            <a:ext cx="1752840" cy="838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35200" y="4906800"/>
            <a:ext cx="1752480" cy="838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58880" y="4754520"/>
            <a:ext cx="1752480" cy="838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45080" y="4221000"/>
            <a:ext cx="3733920" cy="12193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797360" y="4830840"/>
            <a:ext cx="1676520" cy="457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yo Cabi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550200" y="4830840"/>
            <a:ext cx="1676160" cy="4572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ua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799160" y="42973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yo Ty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005440" y="5661000"/>
            <a:ext cx="1181160" cy="84132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43680" y="5734080"/>
            <a:ext cx="1295280" cy="76824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"/>
          <p:cNvCxnSpPr>
            <a:stCxn id="405" idx="1"/>
            <a:endCxn id="402" idx="2"/>
          </p:cNvCxnSpPr>
          <p:nvPr/>
        </p:nvCxnSpPr>
        <p:spPr>
          <a:xfrm flipH="1" flipV="1" rot="5400000">
            <a:off x="5428800" y="5454000"/>
            <a:ext cx="373680" cy="40680"/>
          </a:xfrm>
          <a:prstGeom prst="curvedConnector5">
            <a:avLst>
              <a:gd name="adj1" fmla="val 49758"/>
              <a:gd name="adj2" fmla="val 50000"/>
              <a:gd name="adj3" fmla="val 4975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8" name=""/>
          <p:cNvCxnSpPr>
            <a:stCxn id="406" idx="0"/>
            <a:endCxn id="403" idx="2"/>
          </p:cNvCxnSpPr>
          <p:nvPr/>
        </p:nvCxnSpPr>
        <p:spPr>
          <a:xfrm flipV="1" rot="16200000">
            <a:off x="7266240" y="5408640"/>
            <a:ext cx="446760" cy="203760"/>
          </a:xfrm>
          <a:prstGeom prst="curvedConnector5">
            <a:avLst>
              <a:gd name="adj1" fmla="val 49758"/>
              <a:gd name="adj2" fmla="val 49911"/>
              <a:gd name="adj3" fmla="val 49758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409" name=""/>
          <p:cNvSpPr/>
          <p:nvPr/>
        </p:nvSpPr>
        <p:spPr>
          <a:xfrm>
            <a:off x="7021440" y="6021360"/>
            <a:ext cx="1168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-def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82560" y="4602240"/>
            <a:ext cx="1752840" cy="838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61400" y="46782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427640" y="386064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41080" y="388620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nt 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977920" y="3809880"/>
            <a:ext cx="1411920" cy="100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q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unction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y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valu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968560" y="5059440"/>
            <a:ext cx="13716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ult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"/>
          <p:cNvCxnSpPr/>
          <p:nvPr/>
        </p:nvCxnSpPr>
        <p:spPr>
          <a:xfrm flipV="1">
            <a:off x="2425680" y="4742640"/>
            <a:ext cx="2210400" cy="191160"/>
          </a:xfrm>
          <a:prstGeom prst="curvedConnector5">
            <a:avLst>
              <a:gd name="adj1" fmla="val 49991"/>
              <a:gd name="adj2" fmla="val 50000"/>
              <a:gd name="adj3" fmla="val 49991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17" name=""/>
          <p:cNvCxnSpPr/>
          <p:nvPr/>
        </p:nvCxnSpPr>
        <p:spPr>
          <a:xfrm flipV="1" rot="10800000">
            <a:off x="2434680" y="4906440"/>
            <a:ext cx="2210400" cy="191520"/>
          </a:xfrm>
          <a:prstGeom prst="curvedConnector5">
            <a:avLst>
              <a:gd name="adj1" fmla="val 49991"/>
              <a:gd name="adj2" fmla="val 49905"/>
              <a:gd name="adj3" fmla="val 49991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572000" y="1413000"/>
            <a:ext cx="4392720" cy="525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900" spc="-1" strike="noStrike">
                <a:solidFill>
                  <a:srgbClr val="ffffff"/>
                </a:solidFill>
                <a:latin typeface="HGS創英角ﾎﾟｯﾌﾟ体"/>
              </a:rPr>
              <a:t>case: Timestamp DB at mixi.jp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876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20 million records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each record size is 20 bytes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more than 10,000 updates per sec.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keeps 10,000 connections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dual master replication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each server is only on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memcached compatible protocol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reuses existing Perl clients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421" name=""/>
          <p:cNvSpPr/>
          <p:nvPr/>
        </p:nvSpPr>
        <p:spPr>
          <a:xfrm>
            <a:off x="5019840" y="1844640"/>
            <a:ext cx="2057400" cy="474984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4749840"/>
              <a:gd name="textAreaBottom" fmla="*/ 4649400 h 4749840"/>
            </a:gdLst>
            <a:ahLst/>
            <a:rect l="textAreaLeft" t="textAreaTop" r="textAreaRight" b="textAreaBottom"/>
            <a:pathLst>
              <a:path w="21600" h="49862">
                <a:moveTo>
                  <a:pt x="3600" y="0"/>
                </a:moveTo>
                <a:arcTo wR="3600" hR="3600" stAng="16200000" swAng="-5400000"/>
                <a:lnTo>
                  <a:pt x="0" y="46262"/>
                </a:lnTo>
                <a:arcTo wR="3600" hR="3600" stAng="10800000" swAng="-5400000"/>
                <a:lnTo>
                  <a:pt x="18000" y="498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67200" y="1700280"/>
            <a:ext cx="2057400" cy="47419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4741920"/>
              <a:gd name="textAreaBottom" fmla="*/ 4641480 h 4741920"/>
            </a:gdLst>
            <a:ahLst/>
            <a:rect l="textAreaLeft" t="textAreaTop" r="textAreaRight" b="textAreaBottom"/>
            <a:pathLst>
              <a:path w="21600" h="49779">
                <a:moveTo>
                  <a:pt x="3600" y="0"/>
                </a:moveTo>
                <a:arcTo wR="3600" hR="3600" stAng="16200000" swAng="-5400000"/>
                <a:lnTo>
                  <a:pt x="0" y="46179"/>
                </a:lnTo>
                <a:arcTo wR="3600" hR="3600" stAng="10800000" swAng="-5400000"/>
                <a:lnTo>
                  <a:pt x="18000" y="497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14920" y="1555920"/>
            <a:ext cx="2057400" cy="473364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4733640"/>
              <a:gd name="textAreaBottom" fmla="*/ 4633200 h 4733640"/>
            </a:gdLst>
            <a:ahLst/>
            <a:rect l="textAreaLeft" t="textAreaTop" r="textAreaRight" b="textAreaBottom"/>
            <a:pathLst>
              <a:path w="21600" h="49692">
                <a:moveTo>
                  <a:pt x="3600" y="0"/>
                </a:moveTo>
                <a:arcTo wR="3600" hR="3600" stAng="16200000" swAng="-5400000"/>
                <a:lnTo>
                  <a:pt x="0" y="46092"/>
                </a:lnTo>
                <a:arcTo wR="3600" hR="3600" stAng="10800000" swAng="-5400000"/>
                <a:lnTo>
                  <a:pt x="18000" y="496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400720" y="4156200"/>
            <a:ext cx="121932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24400" y="4079880"/>
            <a:ext cx="121932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248440" y="4003560"/>
            <a:ext cx="121896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172120" y="3927600"/>
            <a:ext cx="121932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095800" y="3470400"/>
            <a:ext cx="121932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search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19840" y="2936880"/>
            <a:ext cx="121896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view_diary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943520" y="2479680"/>
            <a:ext cx="121932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show_friend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867200" y="2022480"/>
            <a:ext cx="121932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ome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019840" y="5451480"/>
            <a:ext cx="121896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list_bookmark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67200" y="4994280"/>
            <a:ext cx="121932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list_friend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788000" y="162864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mod_pe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80360" y="2205000"/>
            <a:ext cx="1295280" cy="1224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449840" y="227664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T (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532640" y="2670120"/>
            <a:ext cx="1000080" cy="6145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"/>
          <p:cNvCxnSpPr>
            <a:stCxn id="431" idx="3"/>
            <a:endCxn id="435" idx="1"/>
          </p:cNvCxnSpPr>
          <p:nvPr/>
        </p:nvCxnSpPr>
        <p:spPr>
          <a:xfrm>
            <a:off x="6086520" y="2364840"/>
            <a:ext cx="1294560" cy="453240"/>
          </a:xfrm>
          <a:prstGeom prst="curvedConnector5">
            <a:avLst>
              <a:gd name="adj1" fmla="val 49930"/>
              <a:gd name="adj2" fmla="val 50000"/>
              <a:gd name="adj3" fmla="val 4993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9" name=""/>
          <p:cNvCxnSpPr>
            <a:stCxn id="430" idx="3"/>
            <a:endCxn id="435" idx="1"/>
          </p:cNvCxnSpPr>
          <p:nvPr/>
        </p:nvCxnSpPr>
        <p:spPr>
          <a:xfrm flipV="1">
            <a:off x="6162840" y="2817000"/>
            <a:ext cx="1218240" cy="5400"/>
          </a:xfrm>
          <a:prstGeom prst="curvedConnector5">
            <a:avLst>
              <a:gd name="adj1" fmla="val 49926"/>
              <a:gd name="adj2" fmla="val 50000"/>
              <a:gd name="adj3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0" name=""/>
          <p:cNvCxnSpPr>
            <a:stCxn id="429" idx="3"/>
            <a:endCxn id="435" idx="1"/>
          </p:cNvCxnSpPr>
          <p:nvPr/>
        </p:nvCxnSpPr>
        <p:spPr>
          <a:xfrm flipV="1">
            <a:off x="6238440" y="2817000"/>
            <a:ext cx="1142280" cy="462600"/>
          </a:xfrm>
          <a:prstGeom prst="curvedConnector5">
            <a:avLst>
              <a:gd name="adj1" fmla="val 49905"/>
              <a:gd name="adj2" fmla="val 50000"/>
              <a:gd name="adj3" fmla="val 4990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1" name=""/>
          <p:cNvCxnSpPr>
            <a:stCxn id="428" idx="3"/>
            <a:endCxn id="435" idx="1"/>
          </p:cNvCxnSpPr>
          <p:nvPr/>
        </p:nvCxnSpPr>
        <p:spPr>
          <a:xfrm flipV="1">
            <a:off x="6314760" y="2817000"/>
            <a:ext cx="1065960" cy="996120"/>
          </a:xfrm>
          <a:prstGeom prst="curvedConnector5">
            <a:avLst>
              <a:gd name="adj1" fmla="val 49898"/>
              <a:gd name="adj2" fmla="val 50000"/>
              <a:gd name="adj3" fmla="val 498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27" idx="3"/>
            <a:endCxn id="435" idx="1"/>
          </p:cNvCxnSpPr>
          <p:nvPr/>
        </p:nvCxnSpPr>
        <p:spPr>
          <a:xfrm flipV="1">
            <a:off x="6391080" y="2817000"/>
            <a:ext cx="989280" cy="1453320"/>
          </a:xfrm>
          <a:prstGeom prst="curvedConnector5">
            <a:avLst>
              <a:gd name="adj1" fmla="val 49908"/>
              <a:gd name="adj2" fmla="val 50000"/>
              <a:gd name="adj3" fmla="val 4990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374880" y="2131920"/>
            <a:ext cx="877320" cy="3682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661080" y="5084640"/>
            <a:ext cx="676080" cy="3682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5" name=""/>
          <p:cNvCxnSpPr>
            <a:stCxn id="426" idx="3"/>
            <a:endCxn id="435" idx="1"/>
          </p:cNvCxnSpPr>
          <p:nvPr/>
        </p:nvCxnSpPr>
        <p:spPr>
          <a:xfrm flipV="1">
            <a:off x="6467400" y="2817000"/>
            <a:ext cx="913680" cy="1529640"/>
          </a:xfrm>
          <a:prstGeom prst="curvedConnector5">
            <a:avLst>
              <a:gd name="adj1" fmla="val 49901"/>
              <a:gd name="adj2" fmla="val 50000"/>
              <a:gd name="adj3" fmla="val 4990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6" name=""/>
          <p:cNvCxnSpPr>
            <a:stCxn id="425" idx="3"/>
            <a:endCxn id="435" idx="1"/>
          </p:cNvCxnSpPr>
          <p:nvPr/>
        </p:nvCxnSpPr>
        <p:spPr>
          <a:xfrm flipV="1">
            <a:off x="6543720" y="2817360"/>
            <a:ext cx="837360" cy="1605600"/>
          </a:xfrm>
          <a:prstGeom prst="curvedConnector5">
            <a:avLst>
              <a:gd name="adj1" fmla="val 49892"/>
              <a:gd name="adj2" fmla="val 49988"/>
              <a:gd name="adj3" fmla="val 4989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24" idx="3"/>
            <a:endCxn id="435" idx="1"/>
          </p:cNvCxnSpPr>
          <p:nvPr/>
        </p:nvCxnSpPr>
        <p:spPr>
          <a:xfrm flipV="1">
            <a:off x="6620040" y="2817360"/>
            <a:ext cx="761040" cy="1681920"/>
          </a:xfrm>
          <a:prstGeom prst="curvedConnector5">
            <a:avLst>
              <a:gd name="adj1" fmla="val 49881"/>
              <a:gd name="adj2" fmla="val 49989"/>
              <a:gd name="adj3" fmla="val 4988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33" idx="3"/>
            <a:endCxn id="435" idx="1"/>
          </p:cNvCxnSpPr>
          <p:nvPr/>
        </p:nvCxnSpPr>
        <p:spPr>
          <a:xfrm flipV="1">
            <a:off x="6086520" y="2817360"/>
            <a:ext cx="1294560" cy="2520000"/>
          </a:xfrm>
          <a:prstGeom prst="curvedConnector5">
            <a:avLst>
              <a:gd name="adj1" fmla="val 49930"/>
              <a:gd name="adj2" fmla="val 49992"/>
              <a:gd name="adj3" fmla="val 4993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9" name=""/>
          <p:cNvCxnSpPr>
            <a:stCxn id="432" idx="3"/>
            <a:endCxn id="435" idx="1"/>
          </p:cNvCxnSpPr>
          <p:nvPr/>
        </p:nvCxnSpPr>
        <p:spPr>
          <a:xfrm flipV="1">
            <a:off x="6238440" y="2817360"/>
            <a:ext cx="1142280" cy="2977200"/>
          </a:xfrm>
          <a:prstGeom prst="curvedConnector5">
            <a:avLst>
              <a:gd name="adj1" fmla="val 49905"/>
              <a:gd name="adj2" fmla="val 49993"/>
              <a:gd name="adj3" fmla="val 4990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50" name=""/>
          <p:cNvSpPr/>
          <p:nvPr/>
        </p:nvSpPr>
        <p:spPr>
          <a:xfrm>
            <a:off x="7524720" y="4221000"/>
            <a:ext cx="1295280" cy="1224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594920" y="429264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T (standb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677000" y="4686480"/>
            <a:ext cx="998640" cy="6141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35" idx="2"/>
            <a:endCxn id="450" idx="0"/>
          </p:cNvCxnSpPr>
          <p:nvPr/>
        </p:nvCxnSpPr>
        <p:spPr>
          <a:xfrm flipH="1" rot="16200000">
            <a:off x="7702920" y="3752640"/>
            <a:ext cx="792720" cy="144720"/>
          </a:xfrm>
          <a:prstGeom prst="curvedConnector5">
            <a:avLst>
              <a:gd name="adj1" fmla="val 49886"/>
              <a:gd name="adj2" fmla="val 49875"/>
              <a:gd name="adj3" fmla="val 4988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54" name=""/>
          <p:cNvSpPr/>
          <p:nvPr/>
        </p:nvSpPr>
        <p:spPr>
          <a:xfrm>
            <a:off x="7527960" y="3645000"/>
            <a:ext cx="1218600" cy="3682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4572000" y="1413000"/>
            <a:ext cx="4392720" cy="525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859280" y="1773360"/>
            <a:ext cx="865080" cy="431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788000" y="1700280"/>
            <a:ext cx="865080" cy="431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case: Cache of Big Storages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876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works as proxy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mediate insert/search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Lua extension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atomic operation by record locking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uses LuaSocket to access the storag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proper DB scheme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TCMDB (hash table): suitable for generic cach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TCNDB (splay tree): suitable for biased access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TCHDB (file): suitable for large records such as imag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TCFDB (file): suitable for small and fixed-length records such as timestamp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460" name=""/>
          <p:cNvSpPr/>
          <p:nvPr/>
        </p:nvSpPr>
        <p:spPr>
          <a:xfrm>
            <a:off x="7378560" y="2368440"/>
            <a:ext cx="1440000" cy="388944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3889440"/>
              <a:gd name="textAreaBottom" fmla="*/ 3819240 h 3889440"/>
            </a:gdLst>
            <a:ahLst/>
            <a:rect l="textAreaLeft" t="textAreaTop" r="textAreaRight" b="textAreaBottom"/>
            <a:pathLst>
              <a:path w="21600" h="58332">
                <a:moveTo>
                  <a:pt x="3600" y="0"/>
                </a:moveTo>
                <a:arcTo wR="3600" hR="3600" stAng="16200000" swAng="-5400000"/>
                <a:lnTo>
                  <a:pt x="0" y="54732"/>
                </a:lnTo>
                <a:arcTo wR="3600" hR="3600" stAng="10800000" swAng="-5400000"/>
                <a:lnTo>
                  <a:pt x="18000" y="58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594560" y="4529160"/>
            <a:ext cx="93492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594560" y="5321160"/>
            <a:ext cx="93492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94560" y="2944800"/>
            <a:ext cx="93492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594560" y="3736800"/>
            <a:ext cx="93492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450560" y="249228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ySQL/h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580000" y="2347920"/>
            <a:ext cx="1440000" cy="396072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3960720"/>
              <a:gd name="textAreaBottom" fmla="*/ 3890520 h 3960720"/>
            </a:gdLst>
            <a:ahLst/>
            <a:rect l="textAreaLeft" t="textAreaTop" r="textAreaRight" b="textAreaBottom"/>
            <a:pathLst>
              <a:path w="21600" h="59401">
                <a:moveTo>
                  <a:pt x="3600" y="0"/>
                </a:moveTo>
                <a:arcTo wR="3600" hR="3600" stAng="16200000" swAng="-5400000"/>
                <a:lnTo>
                  <a:pt x="0" y="55801"/>
                </a:lnTo>
                <a:arcTo wR="3600" hR="3600" stAng="10800000" swAng="-5400000"/>
                <a:lnTo>
                  <a:pt x="18000" y="59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867280" y="5230800"/>
            <a:ext cx="93528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650200" y="247176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kyo Tyr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722920" y="2924280"/>
            <a:ext cx="1214280" cy="93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omic 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867280" y="3357720"/>
            <a:ext cx="938160" cy="431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724360" y="4078440"/>
            <a:ext cx="1214640" cy="93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omic 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4510080"/>
            <a:ext cx="938160" cy="431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716360" y="1628640"/>
            <a:ext cx="865440" cy="43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643280" y="1557360"/>
            <a:ext cx="865440" cy="431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"/>
          <p:cNvCxnSpPr/>
          <p:nvPr/>
        </p:nvCxnSpPr>
        <p:spPr>
          <a:xfrm>
            <a:off x="6804000" y="3455640"/>
            <a:ext cx="573840" cy="524160"/>
          </a:xfrm>
          <a:prstGeom prst="curvedConnector5">
            <a:avLst>
              <a:gd name="adj1" fmla="val 49843"/>
              <a:gd name="adj2" fmla="val 49965"/>
              <a:gd name="adj3" fmla="val 498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"/>
          <p:cNvCxnSpPr/>
          <p:nvPr/>
        </p:nvCxnSpPr>
        <p:spPr>
          <a:xfrm flipH="1">
            <a:off x="6803280" y="3716280"/>
            <a:ext cx="3960" cy="2000880"/>
          </a:xfrm>
          <a:prstGeom prst="curvedConnector5">
            <a:avLst>
              <a:gd name="adj1" fmla="val -15450000"/>
              <a:gd name="adj2" fmla="val 49991"/>
              <a:gd name="adj3" fmla="val -154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7" name=""/>
          <p:cNvCxnSpPr/>
          <p:nvPr/>
        </p:nvCxnSpPr>
        <p:spPr>
          <a:xfrm flipV="1" rot="10800000">
            <a:off x="6803280" y="4076280"/>
            <a:ext cx="573840" cy="629280"/>
          </a:xfrm>
          <a:prstGeom prst="curvedConnector5">
            <a:avLst>
              <a:gd name="adj1" fmla="val 50094"/>
              <a:gd name="adj2" fmla="val 49971"/>
              <a:gd name="adj3" fmla="val 500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8" name=""/>
          <p:cNvCxnSpPr/>
          <p:nvPr/>
        </p:nvCxnSpPr>
        <p:spPr>
          <a:xfrm flipH="1">
            <a:off x="6803280" y="4797000"/>
            <a:ext cx="3960" cy="848520"/>
          </a:xfrm>
          <a:prstGeom prst="curvedConnector5">
            <a:avLst>
              <a:gd name="adj1" fmla="val -9300000"/>
              <a:gd name="adj2" fmla="val 50000"/>
              <a:gd name="adj3" fmla="val -93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79" name=""/>
          <p:cNvCxnSpPr>
            <a:endCxn id="469" idx="1"/>
          </p:cNvCxnSpPr>
          <p:nvPr/>
        </p:nvCxnSpPr>
        <p:spPr>
          <a:xfrm flipH="1" rot="16200000">
            <a:off x="4758840" y="2429280"/>
            <a:ext cx="1404360" cy="523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1" idx="1"/>
          </p:cNvCxnSpPr>
          <p:nvPr/>
        </p:nvCxnSpPr>
        <p:spPr>
          <a:xfrm rot="10800000">
            <a:off x="5017320" y="1985400"/>
            <a:ext cx="707040" cy="2561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6747120" y="1628640"/>
            <a:ext cx="2467080" cy="4590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nserts to the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nserts to the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297320" y="5805360"/>
            <a:ext cx="2779560" cy="82404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etrieves from the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und, re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trieves from the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serts to the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3" name=""/>
          <p:cNvCxnSpPr>
            <a:stCxn id="481" idx="2"/>
            <a:endCxn id="469" idx="0"/>
          </p:cNvCxnSpPr>
          <p:nvPr/>
        </p:nvCxnSpPr>
        <p:spPr>
          <a:xfrm flipH="1">
            <a:off x="6330600" y="2085480"/>
            <a:ext cx="1650240" cy="839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84" name=""/>
          <p:cNvCxnSpPr>
            <a:stCxn id="471" idx="2"/>
            <a:endCxn id="482" idx="0"/>
          </p:cNvCxnSpPr>
          <p:nvPr/>
        </p:nvCxnSpPr>
        <p:spPr>
          <a:xfrm flipH="1">
            <a:off x="5687640" y="5014800"/>
            <a:ext cx="645120" cy="7912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HGS創英角ﾎﾟｯﾌﾟ体"/>
              </a:rPr>
              <a:t>Tokyo Cabinet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database library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HGS創英角ﾎﾟｯﾌﾟ体"/>
              </a:rPr>
              <a:t>Tokyo Tyrant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database server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HGS創英角ﾎﾟｯﾌﾟ体"/>
              </a:rPr>
              <a:t>Tokyo Dystopia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full-text search engine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HGS創英角ﾎﾟｯﾌﾟ体"/>
              </a:rPr>
              <a:t>open sourc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released under LGPL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HGS創英角ﾎﾟｯﾌﾟ体"/>
              </a:rPr>
              <a:t>powerful, portable, practical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written in standard C, optimized to POSIX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41" name=""/>
          <p:cNvSpPr/>
          <p:nvPr/>
        </p:nvSpPr>
        <p:spPr>
          <a:xfrm>
            <a:off x="4643280" y="3500280"/>
            <a:ext cx="4176720" cy="5050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okyo Products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43" name=""/>
          <p:cNvSpPr/>
          <p:nvPr/>
        </p:nvSpPr>
        <p:spPr>
          <a:xfrm>
            <a:off x="4643280" y="3068640"/>
            <a:ext cx="4176720" cy="50472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kyo Cabi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2637000"/>
            <a:ext cx="1441440" cy="504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om stor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12000" y="2637000"/>
            <a:ext cx="1439640" cy="50472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kyo Tyr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80360" y="2637000"/>
            <a:ext cx="1439640" cy="50472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kyo Dystop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3280" y="2205000"/>
            <a:ext cx="4176720" cy="504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Example Code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486" name=""/>
          <p:cNvSpPr/>
          <p:nvPr/>
        </p:nvSpPr>
        <p:spPr>
          <a:xfrm>
            <a:off x="179280" y="1268280"/>
            <a:ext cx="4357800" cy="5183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#include &lt;</a:t>
            </a:r>
            <a:r>
              <a:rPr b="1" lang="en-US" sz="900" spc="-1" strike="noStrike">
                <a:solidFill>
                  <a:srgbClr val="ff9999"/>
                </a:solidFill>
                <a:latin typeface="Courier New"/>
              </a:rPr>
              <a:t>tcrdb.h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#include &lt;stdlib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#include &lt;stdbool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#include &lt;stdint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nt main(int argc, char **argv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TCRDB *rdb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nt ecod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char *valu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900" spc="-1" strike="noStrike">
                <a:solidFill>
                  <a:srgbClr val="99ccff"/>
                </a:solidFill>
                <a:latin typeface="Courier New"/>
              </a:rPr>
              <a:t>/* create the object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rdb = 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rdbnew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900" spc="-1" strike="noStrike">
                <a:solidFill>
                  <a:srgbClr val="99ccff"/>
                </a:solidFill>
                <a:latin typeface="Courier New"/>
              </a:rPr>
              <a:t>/* connect to the server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rdbopen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rdb, "localhost", 1978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ecode = tcrdbecode(r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fprintf(stderr, "open error: %s\n", tcr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900" spc="-1" strike="noStrike">
                <a:solidFill>
                  <a:srgbClr val="99ccff"/>
                </a:solidFill>
                <a:latin typeface="Courier New"/>
              </a:rPr>
              <a:t>/* store records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rdbput2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rdb, "foo", "hop") 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!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rdbput2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rdb, "bar", "step") 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!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rdbput2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rdb, "baz", "jump"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ecode = tcrdbecode(r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fprintf(stderr, "put error: %s\n", tcr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900" spc="-1" strike="noStrike">
                <a:solidFill>
                  <a:srgbClr val="99ccff"/>
                </a:solidFill>
                <a:latin typeface="Courier New"/>
              </a:rPr>
              <a:t>/* retrieve records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value = 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rdbget2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rdb, "foo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f(value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printf("%s\n", value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free(value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ecode = tcrdbecode(r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fprintf(stderr, "get error: %s\n", tcr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643280" y="4724280"/>
            <a:ext cx="4357800" cy="18716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close the connection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rdbclose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rdb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ecode = tcrdbecode(r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printf(stderr, "close error: %s\n", tcr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delete the object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rdbdel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r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okyo Dystopia</a:t>
            </a:r>
            <a:br>
              <a:rPr sz="4900"/>
            </a:br>
            <a:r>
              <a:rPr b="0" lang="en-US" sz="2900" spc="-1" strike="noStrike">
                <a:solidFill>
                  <a:srgbClr val="ffffff"/>
                </a:solidFill>
                <a:latin typeface="HGS創英角ﾎﾟｯﾌﾟ体"/>
              </a:rPr>
              <a:t>- full-text search engine -</a:t>
            </a:r>
            <a:endParaRPr b="0" lang="en-US" sz="2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Features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full-text search engin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manages databases of Tokyo Cabinet as an inverted index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combines two tokenizers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character N-gram (bi-gram) method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perfect recall ratio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simple word by outer language processor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high accuracy and high performanc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high performance/scalability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handles more than 10 million document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searches in millisecond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optimized to professional use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S創英角ﾎﾟｯﾌﾟ体"/>
              </a:rPr>
              <a:t>layered architecture of APIs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S創英角ﾎﾟｯﾌﾟ体"/>
              </a:rPr>
              <a:t>no embedded scoring system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to combine outer scoring system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S創英角ﾎﾟｯﾌﾟ体"/>
              </a:rPr>
              <a:t>no text filter, no crawler, no language processor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convenient utilities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S創英角ﾎﾟｯﾌﾟ体"/>
              </a:rPr>
              <a:t>multilingualism with Unicode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S創英角ﾎﾟｯﾌﾟ体"/>
              </a:rPr>
              <a:t>set operations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S創英角ﾎﾟｯﾌﾟ体"/>
              </a:rPr>
              <a:t>phrase matching, prefix matching, suffix matching, and token matching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S創英角ﾎﾟｯﾌﾟ体"/>
              </a:rPr>
              <a:t>command line utilities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Inverted Index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HGS創英角ﾎﾟｯﾌﾟ体"/>
              </a:rPr>
              <a:t>stands on key/value databas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key = token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S創英角ﾎﾟｯﾌﾟ体"/>
              </a:rPr>
              <a:t>N-gram or simple word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value = occurrence data (posting list)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S創英角ﾎﾟｯﾌﾟ体"/>
              </a:rPr>
              <a:t>list of pairs of document number and offset in the document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HGS創英角ﾎﾟｯﾌﾟ体"/>
              </a:rPr>
              <a:t>uses B+ tree databas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reduces write operations into the disk device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enables common prefix search for token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delta encoding and deflate compression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494" name=""/>
          <p:cNvSpPr/>
          <p:nvPr/>
        </p:nvSpPr>
        <p:spPr>
          <a:xfrm>
            <a:off x="1258920" y="5040360"/>
            <a:ext cx="6408720" cy="16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325160" y="5084640"/>
            <a:ext cx="59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D:21   text: "abracadabra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693440" y="5535720"/>
            <a:ext cx="45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644360" y="5535720"/>
            <a:ext cx="45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126520" y="553716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1: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1:0,21: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1: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1: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633920" y="5124600"/>
            <a:ext cx="385920" cy="431640"/>
          </a:xfrm>
          <a:prstGeom prst="rect">
            <a:avLst/>
          </a:prstGeom>
          <a:noFill/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067360" y="5124600"/>
            <a:ext cx="385560" cy="431640"/>
          </a:xfrm>
          <a:prstGeom prst="rect">
            <a:avLst/>
          </a:prstGeom>
          <a:noFill/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499000" y="5124600"/>
            <a:ext cx="385920" cy="431640"/>
          </a:xfrm>
          <a:prstGeom prst="rect">
            <a:avLst/>
          </a:prstGeom>
          <a:noFill/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919840" y="5124600"/>
            <a:ext cx="385560" cy="431640"/>
          </a:xfrm>
          <a:prstGeom prst="rect">
            <a:avLst/>
          </a:prstGeom>
          <a:noFill/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334200" y="5126040"/>
            <a:ext cx="385560" cy="431640"/>
          </a:xfrm>
          <a:prstGeom prst="rect">
            <a:avLst/>
          </a:prstGeom>
          <a:noFill/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743880" y="5124600"/>
            <a:ext cx="195120" cy="431640"/>
          </a:xfrm>
          <a:prstGeom prst="rect">
            <a:avLst/>
          </a:prstGeom>
          <a:noFill/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821120" y="5178600"/>
            <a:ext cx="385920" cy="431640"/>
          </a:xfrm>
          <a:prstGeom prst="rect">
            <a:avLst/>
          </a:prstGeom>
          <a:noFill/>
          <a:ln w="1584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75440" y="5175360"/>
            <a:ext cx="385560" cy="431640"/>
          </a:xfrm>
          <a:prstGeom prst="rect">
            <a:avLst/>
          </a:prstGeom>
          <a:noFill/>
          <a:ln w="1584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03840" y="5168880"/>
            <a:ext cx="385920" cy="432000"/>
          </a:xfrm>
          <a:prstGeom prst="rect">
            <a:avLst/>
          </a:prstGeom>
          <a:noFill/>
          <a:ln w="1584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122880" y="5157720"/>
            <a:ext cx="385920" cy="432000"/>
          </a:xfrm>
          <a:prstGeom prst="rect">
            <a:avLst/>
          </a:prstGeom>
          <a:noFill/>
          <a:ln w="1584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543720" y="5157720"/>
            <a:ext cx="385560" cy="432000"/>
          </a:xfrm>
          <a:prstGeom prst="rect">
            <a:avLst/>
          </a:prstGeom>
          <a:noFill/>
          <a:ln w="1584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079240" y="5518080"/>
            <a:ext cx="167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1:1, 21: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1: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1:2, 21: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character N-gram index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"q-gram index" (only index), and "indexed database"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uses embedded tokenizer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word index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"word index" (only index), and "tagged index"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uses outer tokenizer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12" name=""/>
          <p:cNvSpPr/>
          <p:nvPr/>
        </p:nvSpPr>
        <p:spPr>
          <a:xfrm>
            <a:off x="4284720" y="4149720"/>
            <a:ext cx="4753080" cy="259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Layered Architecture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14" name=""/>
          <p:cNvSpPr/>
          <p:nvPr/>
        </p:nvSpPr>
        <p:spPr>
          <a:xfrm>
            <a:off x="4502160" y="6202440"/>
            <a:ext cx="4419720" cy="4572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yo Cabi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502160" y="559260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-gram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788160" y="559260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502160" y="505944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ed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788160" y="505944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ged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349880" y="4754520"/>
            <a:ext cx="2286000" cy="1371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711840" y="4754520"/>
            <a:ext cx="2286000" cy="1371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344840" y="4754520"/>
            <a:ext cx="209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acter N-gram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700040" y="475452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gging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502160" y="4221000"/>
            <a:ext cx="441972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900" spc="-1" strike="noStrike">
                <a:solidFill>
                  <a:srgbClr val="ffffff"/>
                </a:solidFill>
                <a:latin typeface="HGS創英角ﾎﾟｯﾌﾟ体"/>
              </a:rPr>
              <a:t>case: friend search at mixi.jp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876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HGS創英角ﾎﾟｯﾌﾟ体"/>
              </a:rPr>
              <a:t>20 million records</a:t>
            </a:r>
            <a:endParaRPr b="0" lang="en-US" sz="28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</a:rPr>
              <a:t>each record size is 1K bytes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</a:rPr>
              <a:t>name and self introduction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HGS創英角ﾎﾟｯﾌﾟ体"/>
              </a:rPr>
              <a:t>more than 100 qps</a:t>
            </a:r>
            <a:endParaRPr b="0" lang="en-US" sz="2800" spc="-1" strike="noStrike">
              <a:solidFill>
                <a:srgbClr val="ffff66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HGS創英角ﾎﾟｯﾌﾟ体"/>
              </a:rPr>
              <a:t>attribute narrowing</a:t>
            </a:r>
            <a:endParaRPr b="0" lang="en-US" sz="28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</a:rPr>
              <a:t>gender, address, birthday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</a:rPr>
              <a:t>multiple sort orders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HGS創英角ﾎﾟｯﾌﾟ体"/>
              </a:rPr>
              <a:t>distributed processing</a:t>
            </a:r>
            <a:endParaRPr b="0" lang="en-US" sz="28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</a:rPr>
              <a:t>more than 10 servers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</a:rPr>
              <a:t>indexer, searchers, merger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HGS創英角ﾎﾟｯﾌﾟ体"/>
              </a:rPr>
              <a:t>ranking by social graph</a:t>
            </a:r>
            <a:endParaRPr b="0" lang="en-US" sz="28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</a:rPr>
              <a:t>the merger scores the result by following the friend links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26" name=""/>
          <p:cNvSpPr/>
          <p:nvPr/>
        </p:nvSpPr>
        <p:spPr>
          <a:xfrm>
            <a:off x="4643280" y="1341360"/>
            <a:ext cx="4321440" cy="532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013440" y="5877000"/>
            <a:ext cx="792000" cy="5745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877080" y="5877000"/>
            <a:ext cx="792000" cy="5745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445080" y="6019920"/>
            <a:ext cx="792360" cy="5745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ile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788000" y="4437000"/>
            <a:ext cx="172872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932360" y="4726080"/>
            <a:ext cx="719280" cy="6462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724360" y="4726080"/>
            <a:ext cx="719280" cy="6462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790880" y="436572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164360" y="3502080"/>
            <a:ext cx="172872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021440" y="3429000"/>
            <a:ext cx="172872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877080" y="3357720"/>
            <a:ext cx="172872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732720" y="3284640"/>
            <a:ext cx="172872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877080" y="3573360"/>
            <a:ext cx="719280" cy="6462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669080" y="3573360"/>
            <a:ext cx="719280" cy="6462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735240" y="3213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788000" y="2276640"/>
            <a:ext cx="172872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932360" y="2565360"/>
            <a:ext cx="719280" cy="6462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'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724360" y="2565360"/>
            <a:ext cx="719280" cy="6462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790160" y="220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29" idx="1"/>
            <a:endCxn id="531" idx="3"/>
          </p:cNvCxnSpPr>
          <p:nvPr/>
        </p:nvCxnSpPr>
        <p:spPr>
          <a:xfrm flipV="1" rot="16200000">
            <a:off x="5743080" y="4920480"/>
            <a:ext cx="648360" cy="155016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29" idx="1"/>
            <a:endCxn id="532" idx="3"/>
          </p:cNvCxnSpPr>
          <p:nvPr/>
        </p:nvCxnSpPr>
        <p:spPr>
          <a:xfrm flipV="1" rot="16200000">
            <a:off x="6139080" y="5316480"/>
            <a:ext cx="648360" cy="75816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1" idx="4"/>
            <a:endCxn id="538" idx="2"/>
          </p:cNvCxnSpPr>
          <p:nvPr/>
        </p:nvCxnSpPr>
        <p:spPr>
          <a:xfrm flipV="1">
            <a:off x="5651640" y="3897000"/>
            <a:ext cx="1226160" cy="1152720"/>
          </a:xfrm>
          <a:prstGeom prst="curvedConnector5">
            <a:avLst>
              <a:gd name="adj1" fmla="val 49867"/>
              <a:gd name="adj2" fmla="val 49984"/>
              <a:gd name="adj3" fmla="val 498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8" name=""/>
          <p:cNvCxnSpPr>
            <a:stCxn id="532" idx="4"/>
            <a:endCxn id="539" idx="2"/>
          </p:cNvCxnSpPr>
          <p:nvPr/>
        </p:nvCxnSpPr>
        <p:spPr>
          <a:xfrm flipV="1">
            <a:off x="6443640" y="3897000"/>
            <a:ext cx="1226160" cy="1152720"/>
          </a:xfrm>
          <a:prstGeom prst="curvedConnector5">
            <a:avLst>
              <a:gd name="adj1" fmla="val 49867"/>
              <a:gd name="adj2" fmla="val 49984"/>
              <a:gd name="adj3" fmla="val 498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9" name=""/>
          <p:cNvCxnSpPr>
            <a:stCxn id="532" idx="1"/>
            <a:endCxn id="543" idx="3"/>
          </p:cNvCxnSpPr>
          <p:nvPr/>
        </p:nvCxnSpPr>
        <p:spPr>
          <a:xfrm flipV="1">
            <a:off x="6084360" y="3210840"/>
            <a:ext cx="1080" cy="1515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0" name=""/>
          <p:cNvSpPr/>
          <p:nvPr/>
        </p:nvSpPr>
        <p:spPr>
          <a:xfrm>
            <a:off x="6297120" y="5423040"/>
            <a:ext cx="1559880" cy="3070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p profil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581160" y="4653000"/>
            <a:ext cx="2277720" cy="3070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 the index and the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710600" y="3573360"/>
            <a:ext cx="1870920" cy="3070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 the social gra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732720" y="1628640"/>
            <a:ext cx="1728720" cy="43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4" name=""/>
          <p:cNvCxnSpPr>
            <a:stCxn id="553" idx="1"/>
            <a:endCxn id="541" idx="0"/>
          </p:cNvCxnSpPr>
          <p:nvPr/>
        </p:nvCxnSpPr>
        <p:spPr>
          <a:xfrm flipV="1" rot="10800000">
            <a:off x="5652360" y="1844280"/>
            <a:ext cx="1080360" cy="4327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5" name=""/>
          <p:cNvCxnSpPr>
            <a:stCxn id="541" idx="3"/>
            <a:endCxn id="537" idx="0"/>
          </p:cNvCxnSpPr>
          <p:nvPr/>
        </p:nvCxnSpPr>
        <p:spPr>
          <a:xfrm>
            <a:off x="6516360" y="2781360"/>
            <a:ext cx="1081800" cy="5040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6" name=""/>
          <p:cNvSpPr/>
          <p:nvPr/>
        </p:nvSpPr>
        <p:spPr>
          <a:xfrm>
            <a:off x="7020000" y="2614680"/>
            <a:ext cx="627120" cy="3070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508720" y="1751040"/>
            <a:ext cx="627120" cy="3070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Example Code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59" name=""/>
          <p:cNvSpPr/>
          <p:nvPr/>
        </p:nvSpPr>
        <p:spPr>
          <a:xfrm>
            <a:off x="179280" y="1413000"/>
            <a:ext cx="4357800" cy="38876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#include &lt;</a:t>
            </a:r>
            <a:r>
              <a:rPr b="1" lang="en-US" sz="900" spc="-1" strike="noStrike">
                <a:solidFill>
                  <a:srgbClr val="ff9999"/>
                </a:solidFill>
                <a:latin typeface="Courier New"/>
              </a:rPr>
              <a:t>dystopia.h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#include &lt;stdlib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#include &lt;stdbool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#include &lt;stdint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nt main(int argc, char **argv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TCIDB *idb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nt ecode, rnum, 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uint64_t *resul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char *tex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900" spc="-1" strike="noStrike">
                <a:solidFill>
                  <a:srgbClr val="99ccff"/>
                </a:solidFill>
                <a:latin typeface="Courier New"/>
              </a:rPr>
              <a:t>/* create the object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db = 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idbnew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900" spc="-1" strike="noStrike">
                <a:solidFill>
                  <a:srgbClr val="99ccff"/>
                </a:solidFill>
                <a:latin typeface="Courier New"/>
              </a:rPr>
              <a:t>/* open the database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idbopen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idb, "casket", IDBOWRITER | IDBOCREAT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ecode = tcidbecode(i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fprintf(stderr, "open error: %s\n", tci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900" spc="-1" strike="noStrike">
                <a:solidFill>
                  <a:srgbClr val="99ccff"/>
                </a:solidFill>
                <a:latin typeface="Courier New"/>
              </a:rPr>
              <a:t>/* store records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idbput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idb, 1, "George Washington") 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!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idbput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idb, 2, "John Adams") 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!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idbput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idb, 3, "Thomas Jefferson"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ecode = tcidbecode(i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fprintf(stderr, "put error: %s\n", tci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643280" y="2637000"/>
            <a:ext cx="4357800" cy="4032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search records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result =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idbsearch2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idb, "john || thomas", &amp;rnum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result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or(i = 0; i &lt; rnum; i++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text =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idbget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idb, result[i]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text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printf("%d\t%s\n", (int)result[i], text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ree(text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ree(result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ecode = tcidbecode(i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printf(stderr, "search error: %s\n", tci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close the database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idbclose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idb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ecode = tcidbecode(i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printf(stderr, "close error: %s\n", tci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delete the object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idbdel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i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2327040" y="5516640"/>
            <a:ext cx="6339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HGS創英角ﾎﾟｯﾌﾟ体"/>
                <a:ea typeface="HGS創英角ﾎﾟｯﾌﾟ体"/>
              </a:rPr>
              <a:t>innovating more and yet mor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  <a:ea typeface="HGS創英角ﾎﾟｯﾌﾟ体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  <a:ea typeface="HGS創英角ﾎﾟｯﾌﾟ体"/>
              </a:rPr>
              <a:t>http://tokyocabinet.sourceforge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okyo Cabinet</a:t>
            </a:r>
            <a:br>
              <a:rPr sz="4900"/>
            </a:br>
            <a:r>
              <a:rPr b="0" lang="en-US" sz="2900" spc="-1" strike="noStrike">
                <a:solidFill>
                  <a:srgbClr val="ffffff"/>
                </a:solidFill>
                <a:latin typeface="HGS創英角ﾎﾟｯﾌﾟ体"/>
              </a:rPr>
              <a:t>- database library -</a:t>
            </a:r>
            <a:endParaRPr b="0" lang="en-US" sz="2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Features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66"/>
                </a:solidFill>
                <a:latin typeface="HGS創英角ﾎﾟｯﾌﾟ体"/>
              </a:rPr>
              <a:t>modern implementation of DBM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key/value database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e.g.) DBM, NDBM, GDBM, TDB, CDB, Berkeley DB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simple library = process embedded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Successor of QDBM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C99 and POSIX compatible, using Pthread, mmap, etc...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Win32 porting is work-in-progres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29040" indent="-329040"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66"/>
                </a:solidFill>
                <a:latin typeface="HGS創英角ﾎﾟｯﾌﾟ体"/>
              </a:rPr>
              <a:t>high performance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insert: 0.4 sec/1M records (2,500,000 qps)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search: 0.33 sec/1M records (3,000,000 qps)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high concurrency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multi-thread safe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read/write locking by record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high scalability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hash and B+tree structure = O(1) and O(log N)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no actual limit size of a database file (to 8 exabytes)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transaction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write ahead logging and shadow paging 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ACID propertie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various APIs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on-memory list/hash/tree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file hash/B+tree/array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script language bindings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Perl, Ruby, Java, Lua, Python, PHP, Haskell, Erlang, etc...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859280" y="1268280"/>
            <a:ext cx="3888000" cy="525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CHDB: Hash Database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876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static hashing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O(1) time complexity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separate chaining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binary search tre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free block pool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best fit allocation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combines mmap and pwrite/pread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saves calling system calls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compression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deflate(gzip)/bzip2/custom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5" name=""/>
          <p:cNvSpPr/>
          <p:nvPr/>
        </p:nvSpPr>
        <p:spPr>
          <a:xfrm>
            <a:off x="521964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64000" y="1681200"/>
            <a:ext cx="144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6920" y="1681200"/>
            <a:ext cx="144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600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036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328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27640" y="1681200"/>
            <a:ext cx="144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7236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1672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5964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0400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48360" y="1681200"/>
            <a:ext cx="144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308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3600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8036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2328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6764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81056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95492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99280" y="1681200"/>
            <a:ext cx="144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400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49880" y="2257560"/>
            <a:ext cx="7621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2000" y="2257560"/>
            <a:ext cx="23619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49880" y="2638440"/>
            <a:ext cx="7621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12000" y="2638440"/>
            <a:ext cx="23619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49880" y="3019320"/>
            <a:ext cx="7621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019320"/>
            <a:ext cx="23619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49880" y="3408480"/>
            <a:ext cx="7621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2000" y="3408480"/>
            <a:ext cx="23619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49880" y="3789360"/>
            <a:ext cx="7621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3789360"/>
            <a:ext cx="23619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49880" y="4170240"/>
            <a:ext cx="7621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12000" y="4170240"/>
            <a:ext cx="23619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49880" y="4560840"/>
            <a:ext cx="7621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12000" y="4560840"/>
            <a:ext cx="23619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49880" y="4941720"/>
            <a:ext cx="7621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4941720"/>
            <a:ext cx="23619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49880" y="5322960"/>
            <a:ext cx="7621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5322960"/>
            <a:ext cx="23619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49880" y="5713560"/>
            <a:ext cx="7621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2000" y="5713560"/>
            <a:ext cx="23619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49880" y="6094440"/>
            <a:ext cx="7621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6094440"/>
            <a:ext cx="23619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22160" y="132084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cket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60" idx="2"/>
            <a:endCxn id="77" idx="1"/>
          </p:cNvCxnSpPr>
          <p:nvPr/>
        </p:nvCxnSpPr>
        <p:spPr>
          <a:xfrm rot="5400000">
            <a:off x="5446800" y="1843560"/>
            <a:ext cx="369000" cy="764280"/>
          </a:xfrm>
          <a:prstGeom prst="curvedConnector5">
            <a:avLst>
              <a:gd name="adj1" fmla="val 28808"/>
              <a:gd name="adj2" fmla="val 64938"/>
              <a:gd name="adj3" fmla="val 2880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62" idx="2"/>
            <a:endCxn id="81" idx="1"/>
          </p:cNvCxnSpPr>
          <p:nvPr/>
        </p:nvCxnSpPr>
        <p:spPr>
          <a:xfrm rot="5400000">
            <a:off x="5209200" y="2081160"/>
            <a:ext cx="1131120" cy="1051560"/>
          </a:xfrm>
          <a:prstGeom prst="curvedConnector5">
            <a:avLst>
              <a:gd name="adj1" fmla="val 43107"/>
              <a:gd name="adj2" fmla="val 60856"/>
              <a:gd name="adj3" fmla="val 431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66" idx="2"/>
            <a:endCxn id="87" idx="1"/>
          </p:cNvCxnSpPr>
          <p:nvPr/>
        </p:nvCxnSpPr>
        <p:spPr>
          <a:xfrm rot="5400000">
            <a:off x="4922280" y="2368440"/>
            <a:ext cx="2282040" cy="1627920"/>
          </a:xfrm>
          <a:prstGeom prst="curvedConnector5">
            <a:avLst>
              <a:gd name="adj1" fmla="val 46623"/>
              <a:gd name="adj2" fmla="val 57022"/>
              <a:gd name="adj3" fmla="val 466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64" idx="2"/>
            <a:endCxn id="93" idx="1"/>
          </p:cNvCxnSpPr>
          <p:nvPr/>
        </p:nvCxnSpPr>
        <p:spPr>
          <a:xfrm rot="5400000">
            <a:off x="4202280" y="3088440"/>
            <a:ext cx="3434400" cy="1340640"/>
          </a:xfrm>
          <a:prstGeom prst="curvedConnector5">
            <a:avLst>
              <a:gd name="adj1" fmla="val 47751"/>
              <a:gd name="adj2" fmla="val 58528"/>
              <a:gd name="adj3" fmla="val 477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78" idx="3"/>
            <a:endCxn id="79" idx="1"/>
          </p:cNvCxnSpPr>
          <p:nvPr/>
        </p:nvCxnSpPr>
        <p:spPr>
          <a:xfrm flipH="1">
            <a:off x="5249520" y="2409840"/>
            <a:ext cx="3124800" cy="381600"/>
          </a:xfrm>
          <a:prstGeom prst="curvedConnector5">
            <a:avLst>
              <a:gd name="adj1" fmla="val -7304"/>
              <a:gd name="adj2" fmla="val 24929"/>
              <a:gd name="adj3" fmla="val -73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3" idx="1"/>
          </p:cNvCxnSpPr>
          <p:nvPr/>
        </p:nvCxnSpPr>
        <p:spPr>
          <a:xfrm flipH="1">
            <a:off x="5249520" y="3171960"/>
            <a:ext cx="3124800" cy="389520"/>
          </a:xfrm>
          <a:prstGeom prst="curvedConnector5">
            <a:avLst>
              <a:gd name="adj1" fmla="val -7304"/>
              <a:gd name="adj2" fmla="val 24884"/>
              <a:gd name="adj3" fmla="val -73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82" idx="3"/>
            <a:endCxn id="85" idx="1"/>
          </p:cNvCxnSpPr>
          <p:nvPr/>
        </p:nvCxnSpPr>
        <p:spPr>
          <a:xfrm flipH="1">
            <a:off x="5249520" y="3171960"/>
            <a:ext cx="3124800" cy="770400"/>
          </a:xfrm>
          <a:prstGeom prst="curvedConnector5">
            <a:avLst>
              <a:gd name="adj1" fmla="val -7304"/>
              <a:gd name="adj2" fmla="val 24918"/>
              <a:gd name="adj3" fmla="val -73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88" idx="3"/>
            <a:endCxn id="89" idx="1"/>
          </p:cNvCxnSpPr>
          <p:nvPr/>
        </p:nvCxnSpPr>
        <p:spPr>
          <a:xfrm flipH="1">
            <a:off x="5249520" y="4322880"/>
            <a:ext cx="3124800" cy="390960"/>
          </a:xfrm>
          <a:prstGeom prst="curvedConnector5">
            <a:avLst>
              <a:gd name="adj1" fmla="val -7304"/>
              <a:gd name="adj2" fmla="val 24976"/>
              <a:gd name="adj3" fmla="val -73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0" idx="3"/>
            <a:endCxn id="91" idx="1"/>
          </p:cNvCxnSpPr>
          <p:nvPr/>
        </p:nvCxnSpPr>
        <p:spPr>
          <a:xfrm flipH="1">
            <a:off x="5249520" y="4712760"/>
            <a:ext cx="3124800" cy="381960"/>
          </a:xfrm>
          <a:prstGeom prst="curvedConnector5">
            <a:avLst>
              <a:gd name="adj1" fmla="val -7304"/>
              <a:gd name="adj2" fmla="val 25000"/>
              <a:gd name="adj3" fmla="val -73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4" idx="3"/>
            <a:endCxn id="95" idx="1"/>
          </p:cNvCxnSpPr>
          <p:nvPr/>
        </p:nvCxnSpPr>
        <p:spPr>
          <a:xfrm flipH="1">
            <a:off x="5249520" y="5474880"/>
            <a:ext cx="3124800" cy="391320"/>
          </a:xfrm>
          <a:prstGeom prst="curvedConnector5">
            <a:avLst>
              <a:gd name="adj1" fmla="val -7304"/>
              <a:gd name="adj2" fmla="val 24953"/>
              <a:gd name="adj3" fmla="val -73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6" idx="3"/>
            <a:endCxn id="97" idx="1"/>
          </p:cNvCxnSpPr>
          <p:nvPr/>
        </p:nvCxnSpPr>
        <p:spPr>
          <a:xfrm flipH="1">
            <a:off x="5249520" y="5865840"/>
            <a:ext cx="3124800" cy="381600"/>
          </a:xfrm>
          <a:prstGeom prst="curvedConnector5">
            <a:avLst>
              <a:gd name="adj1" fmla="val -7304"/>
              <a:gd name="adj2" fmla="val 24929"/>
              <a:gd name="adj3" fmla="val -73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859280" y="1268280"/>
            <a:ext cx="3960720" cy="531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CBDB: B+ Tree Database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876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B+ tree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O(log N) time complexity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page caching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LRU removing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speculative search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stands on hash DB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records pages in hash DB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succeeds time and space efficiency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custom comparison function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prefix/range matching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cursor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jump/next/prev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003640" y="3645000"/>
            <a:ext cx="304560" cy="804240"/>
            <a:chOff x="5003640" y="3645000"/>
            <a:chExt cx="304560" cy="804240"/>
          </a:xfrm>
        </p:grpSpPr>
        <p:sp>
          <p:nvSpPr>
            <p:cNvPr id="115" name=""/>
            <p:cNvSpPr/>
            <p:nvPr/>
          </p:nvSpPr>
          <p:spPr>
            <a:xfrm>
              <a:off x="5003640" y="3645000"/>
              <a:ext cx="304560" cy="199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03640" y="3844800"/>
              <a:ext cx="304560" cy="20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03640" y="4046400"/>
              <a:ext cx="304560" cy="20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03640" y="4248000"/>
              <a:ext cx="304560" cy="20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651640" y="3263760"/>
            <a:ext cx="304560" cy="804960"/>
            <a:chOff x="5651640" y="3263760"/>
            <a:chExt cx="304560" cy="804960"/>
          </a:xfrm>
        </p:grpSpPr>
        <p:sp>
          <p:nvSpPr>
            <p:cNvPr id="120" name=""/>
            <p:cNvSpPr/>
            <p:nvPr/>
          </p:nvSpPr>
          <p:spPr>
            <a:xfrm>
              <a:off x="5651640" y="3263760"/>
              <a:ext cx="304560" cy="199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51640" y="346356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51640" y="366516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51640" y="386712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651640" y="4178160"/>
            <a:ext cx="304560" cy="804960"/>
            <a:chOff x="5651640" y="4178160"/>
            <a:chExt cx="304560" cy="804960"/>
          </a:xfrm>
        </p:grpSpPr>
        <p:sp>
          <p:nvSpPr>
            <p:cNvPr id="125" name=""/>
            <p:cNvSpPr/>
            <p:nvPr/>
          </p:nvSpPr>
          <p:spPr>
            <a:xfrm>
              <a:off x="5651640" y="4178160"/>
              <a:ext cx="304560" cy="199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51640" y="437796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51640" y="457956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51640" y="478152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651640" y="5092560"/>
            <a:ext cx="304560" cy="804960"/>
            <a:chOff x="5651640" y="5092560"/>
            <a:chExt cx="304560" cy="804960"/>
          </a:xfrm>
        </p:grpSpPr>
        <p:sp>
          <p:nvSpPr>
            <p:cNvPr id="130" name=""/>
            <p:cNvSpPr/>
            <p:nvPr/>
          </p:nvSpPr>
          <p:spPr>
            <a:xfrm>
              <a:off x="5651640" y="5092560"/>
              <a:ext cx="304560" cy="199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51640" y="529236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51640" y="549396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51640" y="569592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651640" y="2349360"/>
            <a:ext cx="304560" cy="804960"/>
            <a:chOff x="5651640" y="2349360"/>
            <a:chExt cx="304560" cy="804960"/>
          </a:xfrm>
        </p:grpSpPr>
        <p:sp>
          <p:nvSpPr>
            <p:cNvPr id="135" name=""/>
            <p:cNvSpPr/>
            <p:nvPr/>
          </p:nvSpPr>
          <p:spPr>
            <a:xfrm>
              <a:off x="5651640" y="2349360"/>
              <a:ext cx="304560" cy="199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51640" y="254916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51640" y="275076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51640" y="295272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9" name=""/>
          <p:cNvCxnSpPr>
            <a:stCxn id="118" idx="3"/>
            <a:endCxn id="133" idx="1"/>
          </p:cNvCxnSpPr>
          <p:nvPr/>
        </p:nvCxnSpPr>
        <p:spPr>
          <a:xfrm>
            <a:off x="5308200" y="4349520"/>
            <a:ext cx="343800" cy="1448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17" idx="3"/>
            <a:endCxn id="128" idx="1"/>
          </p:cNvCxnSpPr>
          <p:nvPr/>
        </p:nvCxnSpPr>
        <p:spPr>
          <a:xfrm>
            <a:off x="5308200" y="4147920"/>
            <a:ext cx="343800" cy="735120"/>
          </a:xfrm>
          <a:prstGeom prst="curvedConnector5">
            <a:avLst>
              <a:gd name="adj1" fmla="val 50000"/>
              <a:gd name="adj2" fmla="val 49975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16" idx="3"/>
            <a:endCxn id="123" idx="1"/>
          </p:cNvCxnSpPr>
          <p:nvPr/>
        </p:nvCxnSpPr>
        <p:spPr>
          <a:xfrm>
            <a:off x="5308200" y="3946320"/>
            <a:ext cx="343800" cy="226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15" idx="3"/>
            <a:endCxn id="138" idx="1"/>
          </p:cNvCxnSpPr>
          <p:nvPr/>
        </p:nvCxnSpPr>
        <p:spPr>
          <a:xfrm flipV="1">
            <a:off x="5308200" y="3053520"/>
            <a:ext cx="343800" cy="6915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3" name=""/>
          <p:cNvGrpSpPr/>
          <p:nvPr/>
        </p:nvGrpSpPr>
        <p:grpSpPr>
          <a:xfrm>
            <a:off x="6703920" y="5483160"/>
            <a:ext cx="152640" cy="576360"/>
            <a:chOff x="6703920" y="5483160"/>
            <a:chExt cx="152640" cy="576360"/>
          </a:xfrm>
        </p:grpSpPr>
        <p:sp>
          <p:nvSpPr>
            <p:cNvPr id="144" name=""/>
            <p:cNvSpPr/>
            <p:nvPr/>
          </p:nvSpPr>
          <p:spPr>
            <a:xfrm>
              <a:off x="6703920" y="5483160"/>
              <a:ext cx="152640" cy="14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03920" y="562644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03920" y="577080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03920" y="591516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03920" y="4797360"/>
            <a:ext cx="152640" cy="576360"/>
            <a:chOff x="6703920" y="4797360"/>
            <a:chExt cx="152640" cy="576360"/>
          </a:xfrm>
        </p:grpSpPr>
        <p:sp>
          <p:nvSpPr>
            <p:cNvPr id="149" name=""/>
            <p:cNvSpPr/>
            <p:nvPr/>
          </p:nvSpPr>
          <p:spPr>
            <a:xfrm>
              <a:off x="6703920" y="4797360"/>
              <a:ext cx="152640" cy="14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03920" y="494064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03920" y="508500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03920" y="522936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703920" y="4111560"/>
            <a:ext cx="152640" cy="576360"/>
            <a:chOff x="6703920" y="4111560"/>
            <a:chExt cx="152640" cy="576360"/>
          </a:xfrm>
        </p:grpSpPr>
        <p:sp>
          <p:nvSpPr>
            <p:cNvPr id="154" name=""/>
            <p:cNvSpPr/>
            <p:nvPr/>
          </p:nvSpPr>
          <p:spPr>
            <a:xfrm>
              <a:off x="6703920" y="4111560"/>
              <a:ext cx="152640" cy="14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03920" y="425484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3920" y="439920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03920" y="454356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703920" y="3425760"/>
            <a:ext cx="152640" cy="576360"/>
            <a:chOff x="6703920" y="3425760"/>
            <a:chExt cx="152640" cy="576360"/>
          </a:xfrm>
        </p:grpSpPr>
        <p:sp>
          <p:nvSpPr>
            <p:cNvPr id="159" name=""/>
            <p:cNvSpPr/>
            <p:nvPr/>
          </p:nvSpPr>
          <p:spPr>
            <a:xfrm>
              <a:off x="6703920" y="3425760"/>
              <a:ext cx="152640" cy="14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03920" y="356904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03920" y="371340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03920" y="385776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400800" y="3711600"/>
            <a:ext cx="152280" cy="576360"/>
            <a:chOff x="6400800" y="3711600"/>
            <a:chExt cx="152280" cy="576360"/>
          </a:xfrm>
        </p:grpSpPr>
        <p:sp>
          <p:nvSpPr>
            <p:cNvPr id="164" name=""/>
            <p:cNvSpPr/>
            <p:nvPr/>
          </p:nvSpPr>
          <p:spPr>
            <a:xfrm>
              <a:off x="6400800" y="3711600"/>
              <a:ext cx="152280" cy="14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00800" y="385488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00800" y="399924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0800" y="414360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400800" y="3025800"/>
            <a:ext cx="152280" cy="576360"/>
            <a:chOff x="6400800" y="3025800"/>
            <a:chExt cx="152280" cy="576360"/>
          </a:xfrm>
        </p:grpSpPr>
        <p:sp>
          <p:nvSpPr>
            <p:cNvPr id="169" name=""/>
            <p:cNvSpPr/>
            <p:nvPr/>
          </p:nvSpPr>
          <p:spPr>
            <a:xfrm>
              <a:off x="6400800" y="3025800"/>
              <a:ext cx="152280" cy="14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00800" y="316908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00800" y="331344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345780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400800" y="2340000"/>
            <a:ext cx="152280" cy="576360"/>
            <a:chOff x="6400800" y="2340000"/>
            <a:chExt cx="152280" cy="576360"/>
          </a:xfrm>
        </p:grpSpPr>
        <p:sp>
          <p:nvSpPr>
            <p:cNvPr id="174" name=""/>
            <p:cNvSpPr/>
            <p:nvPr/>
          </p:nvSpPr>
          <p:spPr>
            <a:xfrm>
              <a:off x="6400800" y="2340000"/>
              <a:ext cx="152280" cy="14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00800" y="248328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00800" y="262764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00800" y="277200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400800" y="1654200"/>
            <a:ext cx="152280" cy="576360"/>
            <a:chOff x="6400800" y="1654200"/>
            <a:chExt cx="152280" cy="576360"/>
          </a:xfrm>
        </p:grpSpPr>
        <p:sp>
          <p:nvSpPr>
            <p:cNvPr id="179" name=""/>
            <p:cNvSpPr/>
            <p:nvPr/>
          </p:nvSpPr>
          <p:spPr>
            <a:xfrm>
              <a:off x="6400800" y="1654200"/>
              <a:ext cx="152280" cy="14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00800" y="179748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00800" y="194184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00800" y="208620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3" name=""/>
          <p:cNvCxnSpPr>
            <a:stCxn id="133" idx="3"/>
            <a:endCxn id="147" idx="1"/>
          </p:cNvCxnSpPr>
          <p:nvPr/>
        </p:nvCxnSpPr>
        <p:spPr>
          <a:xfrm>
            <a:off x="5955840" y="5797080"/>
            <a:ext cx="748440" cy="191160"/>
          </a:xfrm>
          <a:prstGeom prst="curvedConnector5">
            <a:avLst>
              <a:gd name="adj1" fmla="val 49855"/>
              <a:gd name="adj2" fmla="val 50000"/>
              <a:gd name="adj3" fmla="val 49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32" idx="3"/>
            <a:endCxn id="152" idx="1"/>
          </p:cNvCxnSpPr>
          <p:nvPr/>
        </p:nvCxnSpPr>
        <p:spPr>
          <a:xfrm flipV="1">
            <a:off x="5955840" y="5301720"/>
            <a:ext cx="748440" cy="294480"/>
          </a:xfrm>
          <a:prstGeom prst="curvedConnector5">
            <a:avLst>
              <a:gd name="adj1" fmla="val 49855"/>
              <a:gd name="adj2" fmla="val 49938"/>
              <a:gd name="adj3" fmla="val 49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31" idx="3"/>
            <a:endCxn id="157" idx="1"/>
          </p:cNvCxnSpPr>
          <p:nvPr/>
        </p:nvCxnSpPr>
        <p:spPr>
          <a:xfrm flipV="1">
            <a:off x="5955840" y="4615560"/>
            <a:ext cx="748440" cy="778680"/>
          </a:xfrm>
          <a:prstGeom prst="curvedConnector5">
            <a:avLst>
              <a:gd name="adj1" fmla="val 49855"/>
              <a:gd name="adj2" fmla="val 50000"/>
              <a:gd name="adj3" fmla="val 49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30" idx="3"/>
            <a:endCxn id="162" idx="1"/>
          </p:cNvCxnSpPr>
          <p:nvPr/>
        </p:nvCxnSpPr>
        <p:spPr>
          <a:xfrm flipV="1">
            <a:off x="5955840" y="3930120"/>
            <a:ext cx="748440" cy="1262880"/>
          </a:xfrm>
          <a:prstGeom prst="curvedConnector5">
            <a:avLst>
              <a:gd name="adj1" fmla="val 49855"/>
              <a:gd name="adj2" fmla="val 49985"/>
              <a:gd name="adj3" fmla="val 49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28" idx="3"/>
            <a:endCxn id="167" idx="1"/>
          </p:cNvCxnSpPr>
          <p:nvPr/>
        </p:nvCxnSpPr>
        <p:spPr>
          <a:xfrm flipV="1">
            <a:off x="5955840" y="4215960"/>
            <a:ext cx="445320" cy="66744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27" idx="3"/>
            <a:endCxn id="172" idx="1"/>
          </p:cNvCxnSpPr>
          <p:nvPr/>
        </p:nvCxnSpPr>
        <p:spPr>
          <a:xfrm flipV="1">
            <a:off x="5955840" y="3529800"/>
            <a:ext cx="445320" cy="1151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26" idx="3"/>
            <a:endCxn id="177" idx="1"/>
          </p:cNvCxnSpPr>
          <p:nvPr/>
        </p:nvCxnSpPr>
        <p:spPr>
          <a:xfrm flipV="1">
            <a:off x="5955840" y="2844360"/>
            <a:ext cx="445320" cy="163584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25" idx="3"/>
            <a:endCxn id="182" idx="1"/>
          </p:cNvCxnSpPr>
          <p:nvPr/>
        </p:nvCxnSpPr>
        <p:spPr>
          <a:xfrm flipV="1">
            <a:off x="5955840" y="2158200"/>
            <a:ext cx="445320" cy="21200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7236000" y="400536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921800" y="4005360"/>
            <a:ext cx="792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36000" y="430992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1800" y="430992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236000" y="46148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21800" y="461484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36000" y="491976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921800" y="4919760"/>
            <a:ext cx="792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36000" y="53006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21800" y="530064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36000" y="560556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21800" y="5605560"/>
            <a:ext cx="792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236000" y="591012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921800" y="591012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36000" y="62150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21800" y="621504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147" idx="3"/>
            <a:endCxn id="205" idx="1"/>
          </p:cNvCxnSpPr>
          <p:nvPr/>
        </p:nvCxnSpPr>
        <p:spPr>
          <a:xfrm>
            <a:off x="6856560" y="5987880"/>
            <a:ext cx="380160" cy="380160"/>
          </a:xfrm>
          <a:prstGeom prst="curvedConnector5">
            <a:avLst>
              <a:gd name="adj1" fmla="val 49763"/>
              <a:gd name="adj2" fmla="val 49952"/>
              <a:gd name="adj3" fmla="val 497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46" idx="3"/>
            <a:endCxn id="197" idx="1"/>
          </p:cNvCxnSpPr>
          <p:nvPr/>
        </p:nvCxnSpPr>
        <p:spPr>
          <a:xfrm flipV="1">
            <a:off x="6856560" y="5071320"/>
            <a:ext cx="380160" cy="772200"/>
          </a:xfrm>
          <a:prstGeom prst="curvedConnector5">
            <a:avLst>
              <a:gd name="adj1" fmla="val 49763"/>
              <a:gd name="adj2" fmla="val 50000"/>
              <a:gd name="adj3" fmla="val 497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7236000" y="270972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21800" y="270972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36000" y="30146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921800" y="301464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36000" y="331956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921800" y="3319560"/>
            <a:ext cx="792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36000" y="362412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921800" y="362412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145" idx="3"/>
            <a:endCxn id="215" idx="1"/>
          </p:cNvCxnSpPr>
          <p:nvPr/>
        </p:nvCxnSpPr>
        <p:spPr>
          <a:xfrm flipV="1">
            <a:off x="6856560" y="3776400"/>
            <a:ext cx="380160" cy="1923120"/>
          </a:xfrm>
          <a:prstGeom prst="curvedConnector5">
            <a:avLst>
              <a:gd name="adj1" fmla="val 49763"/>
              <a:gd name="adj2" fmla="val 49990"/>
              <a:gd name="adj3" fmla="val 497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7236000" y="14144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921800" y="141444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36000" y="171936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21800" y="1719360"/>
            <a:ext cx="792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236000" y="202392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21800" y="202392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36000" y="23288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21800" y="232884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"/>
          <p:cNvCxnSpPr>
            <a:stCxn id="144" idx="3"/>
            <a:endCxn id="224" idx="1"/>
          </p:cNvCxnSpPr>
          <p:nvPr/>
        </p:nvCxnSpPr>
        <p:spPr>
          <a:xfrm flipV="1">
            <a:off x="6856560" y="2480760"/>
            <a:ext cx="380160" cy="3074400"/>
          </a:xfrm>
          <a:prstGeom prst="curvedConnector5">
            <a:avLst>
              <a:gd name="adj1" fmla="val 49763"/>
              <a:gd name="adj2" fmla="val 49994"/>
              <a:gd name="adj3" fmla="val 497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4934880" y="177336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tree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HGS創英角ﾎﾟｯﾌﾟ体"/>
              </a:rPr>
              <a:t>TCFDB: Fixed-length Database</a:t>
            </a:r>
            <a:endParaRPr b="0" lang="en-US" sz="45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876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array of fixed-length elements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O(1) time complexity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natural number key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addresses records by power of key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most effectiv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bulk load by mmap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no key storage per record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extremely fast and concurrent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230" name=""/>
          <p:cNvSpPr/>
          <p:nvPr/>
        </p:nvSpPr>
        <p:spPr>
          <a:xfrm>
            <a:off x="4859280" y="2133720"/>
            <a:ext cx="4105440" cy="417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75280" y="227664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12000" y="227664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48360" y="2276640"/>
            <a:ext cx="86544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883640" y="227664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75280" y="263700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2000" y="263700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948360" y="2637000"/>
            <a:ext cx="86544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83640" y="263700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75280" y="299736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12000" y="299736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48360" y="2997360"/>
            <a:ext cx="86544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883640" y="299736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5280" y="335772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12000" y="335772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48360" y="3357720"/>
            <a:ext cx="86544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83640" y="335772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075280" y="371628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12000" y="371628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8360" y="3716280"/>
            <a:ext cx="865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83640" y="371628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75280" y="407664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12000" y="407664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48360" y="4076640"/>
            <a:ext cx="865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883640" y="407664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75280" y="443700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12000" y="443700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948360" y="4437000"/>
            <a:ext cx="865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883640" y="443700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5280" y="479736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12000" y="479736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4797360"/>
            <a:ext cx="865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883640" y="479736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5280" y="515772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12000" y="515772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5157720"/>
            <a:ext cx="865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883640" y="515772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75280" y="551664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12000" y="551664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948360" y="5516640"/>
            <a:ext cx="86544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83640" y="551664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75280" y="587700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12000" y="587700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48360" y="5877000"/>
            <a:ext cx="86544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883640" y="587700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On-memory Structures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TCXSTR: extensible string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concatenation, formatted allocation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TCLIST: array list (dequeue)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random access by index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push/pop, unshift/shift, insert/remove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TCMAP: map of hash tabl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insert/remove/search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iterator by order of insertion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TCTREE: map of ordered tre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insert/remove/search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iterator by order of comparison function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08:08:37Z</dcterms:created>
  <dc:creator>hirabayashi</dc:creator>
  <dc:description/>
  <dc:language>en-US</dc:language>
  <cp:lastModifiedBy>hirabayashi</cp:lastModifiedBy>
  <dcterms:modified xsi:type="dcterms:W3CDTF">2008-12-16T05:46:31Z</dcterms:modified>
  <cp:revision>50</cp:revision>
  <dc:subject/>
  <dc:title>Tokyo Products</dc:title>
</cp:coreProperties>
</file>